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C4B-8A50-4FB0-BC15-01AC7357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B51-60F9-4EE1-A3EC-A266535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B7A-9697-4AAE-91E4-86B9A2B0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FA8-7ACD-4103-B5F5-1F5FC274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4CF9-CD55-485F-9CD8-4A655ACF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517B-C5C6-4D51-B6C5-67902E7E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B52-5B76-4ABB-BC9A-28F8CEC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5C81-8C6B-4419-9B39-7FDF21A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73E9-5D97-432C-A54C-DD2914B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7FB-ECF9-40CC-88E2-51655AF1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2C6A-4E60-4A14-8E7C-4A32A209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34B-C0EC-4B42-AE60-C114947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6971-6C27-4102-AF09-8A1E87B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A702-2614-48A9-81B1-15E08A8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C97-8E98-4F8A-B569-AC47229C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7E1-916C-465C-A898-4E2E2D6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608-D62A-48A2-B459-74D380C0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B22-6400-4F5A-868D-F69623CB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245-95C0-4573-A422-F69F0A5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D0E-6AB3-4683-9AC6-EDFCCCC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243-77B5-48BB-A3B6-534754D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E8C-F2B9-476C-8EA9-7A613B7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F10-9F41-493C-B791-C046111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02E-6889-44F7-BE76-F296B7F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102-695E-4D30-B050-10FC01C0444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58E8-2259-4078-B9B9-E24BCB5471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ирокая 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важаемые судари и сударыни! (Именно так обращались на Руси к почитаемым людям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кануне большого старинного праздника Масленицы мы приглашаем всех к нам в г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есну встречать да Масленицу провожать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сленица длится 7 день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недельник- встреч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торник – заигрыш: делают чучело Масленицы, катаются на санках, украшают до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реда – лакомка: угощение блинами, катание Масленицы, игры, соревн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етверг – разгуляй. Гуланье в самом разгаре: пляски, хороводы, игры. Катание с Масленицей, приезжают ряженые, угощают блин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ятница – зимние посиделки или тёщины вечерки: чаепития, хождение друг к другу в гости, игр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уббота – Широкая Масленица: угощение блинами,игры,гулянья,хороводы,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скресенье – Прощённый день: в этот день все просили друг у друга прощ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гад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лый Тихон с неба спихан. Где пробегает – ковёр расстила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ыла белая да седая, а пришла зелёная, молод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сю зиму лежал, а весной в реку убежа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овой стене, в круглом окне, днём стекло разбито, за ночь вставлен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ист и ясен, как алмаз, но дорог не бывает. Он от матери рождён, сам её рожда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 у наших у ворот, в ночь рассыпался горох, ни лопатой не сгрести, ни метёлкой не сме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ше леса, краше света, без огня горит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. М. Кустодиев «Маслениц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698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.М. Кустодиев «Балаган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34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.И.Суриков «Взятие снежного города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i-main-pic" descr="Картинка 4 из 4"/>
          <p:cNvPicPr/>
          <p:nvPr/>
        </p:nvPicPr>
        <p:blipFill>
          <a:blip r:embed="rId1"/>
          <a:stretch/>
        </p:blipFill>
        <p:spPr>
          <a:xfrm>
            <a:off x="324000" y="1916280"/>
            <a:ext cx="7272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.И.Суриков «Взятие снежного города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i-main-pic" descr="Картинка 3 из 4"/>
          <p:cNvPicPr/>
          <p:nvPr/>
        </p:nvPicPr>
        <p:blipFill>
          <a:blip r:embed="rId1"/>
          <a:stretch/>
        </p:blipFill>
        <p:spPr>
          <a:xfrm>
            <a:off x="395280" y="1454040"/>
            <a:ext cx="69134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меты и поговорки о Маслениц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настье в воскресенье перед масленой – к урожаю грибов.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на масленой неделе идёт снег, будет урожай гречих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сленица объедуха, деньгам приберух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всё коту Масленица, будет и великий пос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лин добр не оди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лины брюха не портя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лин не клин, брюха не раскол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18:19Z</dcterms:created>
  <dc:creator>дом</dc:creator>
  <dc:description/>
  <dc:language>en-US</dc:language>
  <cp:lastModifiedBy>дом</cp:lastModifiedBy>
  <dcterms:modified xsi:type="dcterms:W3CDTF">2010-02-10T04:17:28Z</dcterms:modified>
  <cp:revision>4</cp:revision>
  <dc:subject/>
  <dc:title>Широкая масленица</dc:title>
</cp:coreProperties>
</file>