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8A87-91C5-460C-B060-F32F08584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264F-A269-4026-A6D6-0ED23C73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6DE3-59F4-4515-B0C1-3BE2DD00A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2B50-89FD-43B3-B36C-7FB7A0B0B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F4C5-3D21-4F28-A174-DE68846EF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BB63-7215-468A-90A1-F2C1E286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CABF-3FDB-4A1F-9E10-C9E7933E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854F-470E-4EEC-9E65-C03A52A0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7FEA-E56C-4B2A-AC0D-49F34FED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675B-28C6-4A62-BC46-4AAD1B4A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DE2C-49FB-487A-8AF8-240B44F7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7243-B592-4B96-95AB-2CF9FBA5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27EB-BE79-4A48-B1B6-4156DE48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5038-77D2-4292-A4AD-3277ED38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6019-639F-48B1-945C-C77F430E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FF1E-A4A8-4A36-8060-E37DFDB30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22CF-91C9-4B37-AA45-B785676CF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9213-3515-42ED-AC8E-8918E4C4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122F-B35F-46CF-9E5F-5235399D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3AA0-C713-4910-B4E0-56A13F30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9D03-4FCA-4660-8D1C-21D7FE89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2F5C-5ABE-4453-86B5-3BEEEA37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4B7F-4E2C-4E8C-B042-719E4B3B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32C1-B709-4746-B35B-0AA7EF08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0139-29D1-4736-892A-8DC3FC3C3B5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5AE1-AA7D-454D-AA68-11F1F16AE55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Два мира Ваньки Жукова  ( по рассказу А.Чехова «Ванька»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удьба твоего ровесника, жившего сто лет наза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Антон Павлович Чехов (1860-1904)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3176640" cy="4495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443640" y="2924280"/>
            <a:ext cx="2592360" cy="3673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419640" y="1341360"/>
            <a:ext cx="29527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Два мира Ваньки Жукова  ( по рассказу А.Чехова «Ванька»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удьба твоего ровесника, жившего сто лет наза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айди ответы в тексте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600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Балагурство деда»  -  1 ря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В лес, за ёлкой»      -  2 ря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«Украшение ёлки»     -  3 ря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Владимир Маковский «Свидание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484360" y="1413000"/>
            <a:ext cx="41054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468360" y="-892080"/>
            <a:ext cx="11430000" cy="85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ссказы о ваших сверстниках,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живших много лет назад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3228840" cy="4305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003640" y="1773360"/>
            <a:ext cx="32292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2705040" cy="4170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95640" y="333360"/>
            <a:ext cx="46148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3T20:30:26Z</dcterms:created>
  <dc:creator>дом</dc:creator>
  <dc:description/>
  <dc:language>en-US</dc:language>
  <cp:lastModifiedBy>дом</cp:lastModifiedBy>
  <dcterms:modified xsi:type="dcterms:W3CDTF">2010-10-28T22:41:58Z</dcterms:modified>
  <cp:revision>7</cp:revision>
  <dc:subject/>
  <dc:title>Два мира Ваньки Жукова  ( по рассказу А.Чехова «Ванька»)</dc:title>
</cp:coreProperties>
</file>