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318-22D6-40D5-9B8D-439DC87D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0A2-9CF0-40A7-9203-8825474B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6FD-9FBD-4A3D-AC14-DE736473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7A5-A098-4D4F-94A5-15190C6E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2541-99B0-48BF-9F4A-18FF046B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BB83-4EBA-4EAC-8684-26F40BCF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2A02-1EAC-4522-B6A3-EAE03852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AC18-D194-46FC-922C-761B5F99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68E6-7B59-451E-AFEE-685D1B20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BF3F-0573-4476-81ED-85046A3D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8DAB-C798-4BC1-948E-76BA0472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5F8-4E0C-4547-B4AA-3C5DF837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8F1F-1CE7-4852-9CD1-4BB03962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F4A6-4361-4BD1-BE6A-87CD72B0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7983-F1C8-4330-917D-FADF42A9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16E9-F910-44D6-B5BB-3AA3CF9A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4159-3A1C-42A0-A3D9-3C785627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2F9-5FE0-4BE2-95A1-F2AB9347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160-C918-4B17-A5A7-0AEDB5CE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71F-AF6E-4C99-A255-7DA54C5A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BE4-DA60-4C7B-855E-2C336C86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B6E-559E-4D16-A807-D5795F39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032-E166-4B10-84C2-F0E99F24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A84-1151-46AE-A9CF-E5473D99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B508-5997-4F80-A39C-763C6099A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9279-02B0-4FC3-BA2F-7107A7B89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66084" r="48012" b="0"/>
          <a:stretch/>
        </p:blipFill>
        <p:spPr>
          <a:xfrm>
            <a:off x="2057400" y="914400"/>
            <a:ext cx="4753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6291000" cy="280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6261120" cy="2781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95280" y="2362320"/>
            <a:ext cx="685800" cy="609480"/>
          </a:xfrm>
          <a:prstGeom prst="rect">
            <a:avLst/>
          </a:prstGeom>
          <a:solidFill>
            <a:srgbClr val="e646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362320"/>
            <a:ext cx="685800" cy="609480"/>
          </a:xfrm>
          <a:prstGeom prst="rect">
            <a:avLst/>
          </a:prstGeom>
          <a:solidFill>
            <a:srgbClr val="e646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362320"/>
            <a:ext cx="685800" cy="609480"/>
          </a:xfrm>
          <a:prstGeom prst="rect">
            <a:avLst/>
          </a:prstGeom>
          <a:solidFill>
            <a:srgbClr val="e646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5410080"/>
            <a:ext cx="685800" cy="685800"/>
          </a:xfrm>
          <a:prstGeom prst="rect">
            <a:avLst/>
          </a:prstGeom>
          <a:solidFill>
            <a:srgbClr val="e646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5410080"/>
            <a:ext cx="685800" cy="609840"/>
          </a:xfrm>
          <a:prstGeom prst="rect">
            <a:avLst/>
          </a:prstGeom>
          <a:solidFill>
            <a:srgbClr val="e646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5410080"/>
            <a:ext cx="685800" cy="609840"/>
          </a:xfrm>
          <a:prstGeom prst="rect">
            <a:avLst/>
          </a:prstGeom>
          <a:solidFill>
            <a:srgbClr val="e646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0048" r="0" b="0"/>
          <a:stretch/>
        </p:blipFill>
        <p:spPr>
          <a:xfrm>
            <a:off x="0" y="3348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50048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44000" cy="210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514600" y="3168720"/>
            <a:ext cx="3124080" cy="26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 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319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380880" y="4648320"/>
          <a:ext cx="609840" cy="100476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19320" y="4648320"/>
          <a:ext cx="685800" cy="10047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00400" y="4648320"/>
          <a:ext cx="609480" cy="100476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038480" y="4648320"/>
          <a:ext cx="685800" cy="10047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952880" y="4648320"/>
          <a:ext cx="685800" cy="10047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133720" y="4648320"/>
          <a:ext cx="761760" cy="100476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867280" y="4648320"/>
          <a:ext cx="762120" cy="100476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781680" y="4648320"/>
          <a:ext cx="685800" cy="10047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48781" r="0" b="150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40037"/>
          <a:stretch/>
        </p:blipFill>
        <p:spPr>
          <a:xfrm>
            <a:off x="0" y="609480"/>
            <a:ext cx="9144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53383" r="0" b="0"/>
          <a:stretch/>
        </p:blipFill>
        <p:spPr>
          <a:xfrm>
            <a:off x="0" y="1523880"/>
            <a:ext cx="9144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72521"/>
          <a:stretch/>
        </p:blipFill>
        <p:spPr>
          <a:xfrm>
            <a:off x="0" y="10666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27194" r="0" b="40790"/>
          <a:stretch/>
        </p:blipFill>
        <p:spPr>
          <a:xfrm>
            <a:off x="762120" y="1371600"/>
            <a:ext cx="8076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58639" r="0" b="0"/>
          <a:stretch/>
        </p:blipFill>
        <p:spPr>
          <a:xfrm>
            <a:off x="152280" y="380880"/>
            <a:ext cx="88394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0" r="0" b="59640"/>
          <a:stretch/>
        </p:blipFill>
        <p:spPr>
          <a:xfrm>
            <a:off x="0" y="1066680"/>
            <a:ext cx="8991720" cy="3826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2971800" y="175248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105520" y="1752480"/>
            <a:ext cx="257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72200" y="1752480"/>
            <a:ext cx="257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238880" y="1752480"/>
            <a:ext cx="2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229600" y="1752480"/>
            <a:ext cx="257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114800" y="1752480"/>
            <a:ext cx="257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114800" y="36576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971800" y="3657600"/>
            <a:ext cx="51444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105520" y="3657600"/>
            <a:ext cx="25704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72200" y="3657600"/>
            <a:ext cx="257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238880" y="3657600"/>
            <a:ext cx="25740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305920" y="3657600"/>
            <a:ext cx="25704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0" b="51836"/>
          <a:stretch/>
        </p:blipFill>
        <p:spPr>
          <a:xfrm>
            <a:off x="0" y="22860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486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2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20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526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532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501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143000"/>
            <a:ext cx="342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крась только те картинки, в названиях которых звучит песенка воды (с-с-с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UTNIK OS</cp:lastModifiedBy>
  <dcterms:modified xsi:type="dcterms:W3CDTF">2013-06-03T14:37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