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852-38AD-4B36-B60C-2B8193BD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EB2-557F-403C-96E9-50D67F61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CF1-F0EF-467F-88B4-18098D0D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C82-5D3F-440F-BCEA-2F54A6B7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B567-1C58-4A05-94CD-A111B920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2C90-5665-4FB9-9823-151874ED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37B0-E979-4D73-9E73-A37CD7CE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F23A-8C7F-4709-A9FE-46FAF7DB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A7A3-9A3F-4DD6-AC0E-9A9DDF0E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2A70-4F35-4357-A5B3-3421859B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6967-D9DF-465C-8555-E76C6AD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A24-2434-4FB0-BEB9-653B393E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FE9E-9628-435D-8DDA-47FEA2FD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330C-F46A-493E-B4DA-3CB9749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6E96-D6CE-4497-8BA8-FEF06544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F16A-595E-4334-8961-8136EA22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BF2A-0BC5-46D2-80CD-3D56A4B6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9D5-8A1C-42B7-A023-0CD645EF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178-AB94-409D-AB02-D14350E8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087-B810-4D21-B936-6F3477F4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72A-D994-4881-8058-329C59A6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233-F567-4C08-8217-FCE51A03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04D-A52E-4B17-88AF-68770140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B3D-BD25-4B2F-AE17-51E386F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51C-D1F1-4E00-8CAC-35FD7581DF6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7FC1-3374-4A49-AFF3-F76967033B2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066680" y="1143000"/>
            <a:ext cx="79250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 и как рисует художник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361944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191120" y="3346560"/>
            <a:ext cx="4190760" cy="3873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28960" y="0"/>
            <a:ext cx="5315040" cy="3533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 rot="14728200">
            <a:off x="609480" y="380160"/>
            <a:ext cx="3273480" cy="3273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0" b="26905"/>
          <a:stretch/>
        </p:blipFill>
        <p:spPr>
          <a:xfrm>
            <a:off x="3200400" y="3200400"/>
            <a:ext cx="531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05120" y="304920"/>
            <a:ext cx="190476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3257280" cy="2446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038480" y="1143000"/>
            <a:ext cx="762120" cy="0"/>
          </a:xfrm>
          <a:prstGeom prst="line">
            <a:avLst/>
          </a:prstGeom>
          <a:ln w="92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3733920"/>
            <a:ext cx="1904760" cy="17524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4495680"/>
            <a:ext cx="762120" cy="0"/>
          </a:xfrm>
          <a:prstGeom prst="line">
            <a:avLst/>
          </a:prstGeom>
          <a:ln w="92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274320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66680" y="3809880"/>
            <a:ext cx="1905120" cy="1752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533520"/>
            <a:ext cx="1905120" cy="1752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1371600"/>
            <a:ext cx="761760" cy="0"/>
          </a:xfrm>
          <a:prstGeom prst="line">
            <a:avLst/>
          </a:prstGeom>
          <a:ln w="92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92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3943440" cy="245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96252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UTNIK OS</cp:lastModifiedBy>
  <dcterms:modified xsi:type="dcterms:W3CDTF">2013-09-15T16:40:3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