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62E2-9CB5-4E9A-B6A4-71059E4D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A5B9-FFDE-4359-9941-D4FA99AB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8FDA-B19F-4D60-A1FE-8247915C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FEB5-9271-4025-A0CE-0F6577A6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786C-2E39-475C-8A36-403FD1DF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D80D-2F42-4D3B-83D3-F0A17599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B27F-25F9-4C44-9C0D-129CC054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EBFB-142B-446D-B74F-23585D14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2FF5-4F95-48DE-A892-091CC47D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A529-4064-4991-9639-9FEF5412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F72E-E3D9-4F21-8D00-79A21A11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80B0-D685-45D8-ADF7-C56F177C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7258-DA17-4FDD-85CF-7104DE84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9FE8-3E22-4F27-9C82-B3499668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33FD-918C-421D-80E8-BC2DED5F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1CB1-084A-4AF3-B1B1-F8B2AB0E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DAED-55CA-4AD5-BDAC-B72D704C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806A-B642-43B2-8DD2-7781ECFB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5582-DE26-4CBA-B446-B5B78377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51C6B-1F8C-4688-98F6-883B4FEF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3148-E613-440F-953B-64579ED3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3F88-E59E-4F7A-9322-D81611BC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B0A0-EB60-46C5-81E9-966D3BAD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973A-6EEC-4D92-8587-1AB9BD29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56A8-26F2-46F3-BC19-3295060318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DC65-EC5E-4214-B479-5309960DC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143000" y="2819520"/>
            <a:ext cx="6400800" cy="15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ходим    фигур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rot="10800000">
            <a:off x="2743200" y="2742480"/>
            <a:ext cx="3733920" cy="1676520"/>
          </a:xfrm>
          <a:custGeom>
            <a:avLst/>
            <a:gdLst>
              <a:gd name="textAreaLeft" fmla="*/ 821160 w 3733920"/>
              <a:gd name="textAreaRight" fmla="*/ 2912760 w 3733920"/>
              <a:gd name="textAreaTop" fmla="*/ 368640 h 1676520"/>
              <a:gd name="textAreaBottom" fmla="*/ 1307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74320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343400" y="2742840"/>
            <a:ext cx="11430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18658" r="0" b="63443"/>
          <a:stretch/>
        </p:blipFill>
        <p:spPr>
          <a:xfrm>
            <a:off x="685800" y="1492200"/>
            <a:ext cx="80010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0800000">
            <a:off x="1523880" y="1828080"/>
            <a:ext cx="5486400" cy="2438280"/>
          </a:xfrm>
          <a:custGeom>
            <a:avLst/>
            <a:gdLst>
              <a:gd name="textAreaLeft" fmla="*/ 1206360 w 5486400"/>
              <a:gd name="textAreaRight" fmla="*/ 4280040 w 5486400"/>
              <a:gd name="textAreaTop" fmla="*/ 536040 h 2438280"/>
              <a:gd name="textAreaBottom" fmla="*/ 19022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1828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95480" y="1828440"/>
            <a:ext cx="27432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2895480"/>
            <a:ext cx="25905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55047" r="0" b="27988"/>
          <a:stretch/>
        </p:blipFill>
        <p:spPr>
          <a:xfrm>
            <a:off x="914400" y="2286000"/>
            <a:ext cx="7467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1066680"/>
            <a:ext cx="2743200" cy="16002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066680"/>
            <a:ext cx="2743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81080" y="1066680"/>
            <a:ext cx="1447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1219320"/>
            <a:ext cx="20574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029200" y="1219320"/>
            <a:ext cx="838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1219320"/>
            <a:ext cx="20574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809880"/>
            <a:ext cx="2438640" cy="2286000"/>
          </a:xfrm>
          <a:prstGeom prst="pentag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47242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809880" y="4724280"/>
            <a:ext cx="19814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UTNIK OS</cp:lastModifiedBy>
  <dcterms:modified xsi:type="dcterms:W3CDTF">2013-09-16T17:04:3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