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FB9-DA65-4902-A6B2-366B9240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E4B-6AA0-4774-8D09-3FAFA761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604-3D9D-4FC5-B7D0-FF8C5723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4A7-BBE3-4429-B917-814DC360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E2E-1C6A-4732-9637-7333ED60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17B-7EF3-4319-87F3-34838A70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20C-03D4-4E86-B8B5-508D99D7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B48-329D-4AE6-881F-AED0645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DCB-F467-4BD1-8DF5-1FFEA2D8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1FB-CF3E-452D-8A10-304DCDE1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1E1-2B94-4DDE-9E89-51F4A03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437-387B-438D-8486-4C981E17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39F-7B70-4E1F-A009-80430E8B8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Имей сердце, имей душу,-</a:t>
            </a:r>
            <a:br>
              <a:rPr sz="4800"/>
            </a:b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и будешь (?) во всякое врем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человек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граждан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дворян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господ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Фонвизин изображение 8"/>
          <p:cNvPicPr/>
          <p:nvPr/>
        </p:nvPicPr>
        <p:blipFill>
          <a:blip r:embed="rId2"/>
          <a:stretch/>
        </p:blipFill>
        <p:spPr>
          <a:xfrm>
            <a:off x="6172200" y="3306600"/>
            <a:ext cx="2666880" cy="33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Сын случайного отца (?)-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внебрачный сы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3880" y="33526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дворянское обще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895480" y="20574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4417"/>
                </a:solidFill>
                <a:latin typeface="Times New Roman"/>
              </a:rPr>
              <a:t>Свет (?) -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486040" y="533160"/>
            <a:ext cx="26701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надеюс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308600" y="609480"/>
            <a:ext cx="40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4417"/>
                </a:solidFill>
                <a:latin typeface="Times New Roman"/>
              </a:rPr>
              <a:t>Ласкаюсь (?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74417"/>
                </a:solidFill>
                <a:latin typeface="Times New Roman"/>
              </a:rPr>
              <a:t>–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1225080" y="2438280"/>
            <a:ext cx="32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4417"/>
                </a:solidFill>
                <a:latin typeface="Times New Roman"/>
              </a:rPr>
              <a:t>Скаред (?) –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4572000" y="24382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жадный, скупой человек, скряг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762120" y="480060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ервоначально – грязный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отвратительный, скверный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10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74417"/>
                </a:solidFill>
                <a:latin typeface="Times New Roman"/>
              </a:rPr>
              <a:t>Гнушался вспоминать (?) –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152280" y="266688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испытывать чувство брезгливой неприязни к кому-нибудь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74417"/>
                </a:solidFill>
                <a:latin typeface="Times New Roman"/>
              </a:rPr>
              <a:t>Гнус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 Мошкара (в рус. язык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одлец (в белорус. язык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3.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Отвращение (в болгар. яз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4.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Грязь (в сербохорв. язык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4417"/>
                </a:solidFill>
                <a:latin typeface="Times New Roman"/>
              </a:rPr>
              <a:t>Без заслуг пожаловану (?) 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2219400" y="3505320"/>
            <a:ext cx="398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незаслуженно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Отношение к службе и власти (?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52280" y="243828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спитанию и образованию (?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23"/>
          <p:cNvSpPr/>
          <p:nvPr/>
        </p:nvSpPr>
        <p:spPr>
          <a:xfrm>
            <a:off x="759960" y="4952880"/>
            <a:ext cx="69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Отношение к богатству (?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Имей сердце, имей душу, и будешь человек во всякое  время человек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380880" y="3276720"/>
            <a:ext cx="8510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рудами и честностью состояние своё сделать можно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04920" y="4343400"/>
            <a:ext cx="851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Глупом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сыну не в помощь богатство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04920" y="5410080"/>
            <a:ext cx="8510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Истинное почтение необходим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заслуживается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04920" y="144792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ямое достоинство в человеке – есть душ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304920" y="2362320"/>
            <a:ext cx="851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В большом свете водятся премелкие душ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Столкновение нормы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 разумного миропонимания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 с антинормой в комедии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Д.И. Фонвизина «Недоросль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Picture 7" descr="Фонвизин изображение 3"/>
          <p:cNvPicPr/>
          <p:nvPr/>
        </p:nvPicPr>
        <p:blipFill>
          <a:blip r:embed="rId2"/>
          <a:stretch/>
        </p:blipFill>
        <p:spPr>
          <a:xfrm>
            <a:off x="2666880" y="33526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1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Цели уро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ть  образовательную среду для более глубокого понимания  эстетики классицизма и просветительства второй половины 18 века; продолжить овладеть стилистикой фонвизинского текста как смыслообразующ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крыть авторское понимание «нормы» и «антинормы», используя разные приёмы: «вслед за автором» и «сопоставительный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ствовать навык самостоятельной работы с текстом, учить детей приёмам сравнительного анализа, совершенствовать образное и ассоциативное мышление учащихся и их устную реч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питывать у учащихся на примере героев комедии высокие представления о чести и достоинстве человека, справедливости и нравственном дол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Прямую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цену уму даёт</a:t>
            </a:r>
            <a:r>
              <a:rPr b="1" lang="en-US" sz="4400" spc="-1" strike="noStrike">
                <a:solidFill>
                  <a:srgbClr val="e74417"/>
                </a:solidFill>
                <a:latin typeface="Arial"/>
              </a:rPr>
              <a:t> (?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956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благоденств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благосостоя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благонрав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Фонвизин изображение 8"/>
          <p:cNvPicPr/>
          <p:nvPr/>
        </p:nvPicPr>
        <p:blipFill>
          <a:blip r:embed="rId2"/>
          <a:stretch/>
        </p:blipFill>
        <p:spPr>
          <a:xfrm>
            <a:off x="6248520" y="3124080"/>
            <a:ext cx="2666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Угнетать рабством </a:t>
            </a:r>
            <a:br>
              <a:rPr sz="4800"/>
            </a:b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себе подобных (?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117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беззакон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неправиль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стыд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Фонвизин изображение 8"/>
          <p:cNvPicPr/>
          <p:nvPr/>
        </p:nvPicPr>
        <p:blipFill>
          <a:blip r:embed="rId2"/>
          <a:stretch/>
        </p:blipFill>
        <p:spPr>
          <a:xfrm>
            <a:off x="6400800" y="3276720"/>
            <a:ext cx="2514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74417"/>
                </a:solidFill>
                <a:latin typeface="Times New Roman"/>
              </a:rPr>
              <a:t>Тщетно звать врача к больным неисцельно: тут врач (?),  разве сам заразитс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84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не  помож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не  пособи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не   в  сил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Фонвизин изображение 8"/>
          <p:cNvPicPr/>
          <p:nvPr/>
        </p:nvPicPr>
        <p:blipFill>
          <a:blip r:embed="rId2"/>
          <a:stretch/>
        </p:blipFill>
        <p:spPr>
          <a:xfrm>
            <a:off x="617220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Прямое достоинство человека есть (?)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2032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крас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душ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характ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Фонвизин изображение 8"/>
          <p:cNvPicPr/>
          <p:nvPr/>
        </p:nvPicPr>
        <p:blipFill>
          <a:blip r:embed="rId2"/>
          <a:stretch/>
        </p:blipFill>
        <p:spPr>
          <a:xfrm>
            <a:off x="617220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483a"/>
                </a:solidFill>
                <a:latin typeface="Times New Roman"/>
              </a:rPr>
              <a:t>Норма, образец для  подражания -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540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человек разумный, понимающий общественную польз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4417"/>
                </a:solidFill>
                <a:latin typeface="Times New Roman"/>
              </a:rPr>
              <a:t>Антинорма    -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2514240"/>
            <a:ext cx="85406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оведение человека, руководствующегося  личными влечения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4417"/>
                </a:solidFill>
                <a:latin typeface="Times New Roman"/>
              </a:rPr>
              <a:t>Конфликт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(от лат.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onflictus-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столкновение)-противоборство, воплощённое  в сюжете литературного произ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Столкновение нормы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 разумного миропонимания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 с антинормой в комедии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Д.И. Фонвизина «Недоросль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7" descr="Фонвизин изображение 3"/>
          <p:cNvPicPr/>
          <p:nvPr/>
        </p:nvPicPr>
        <p:blipFill>
          <a:blip r:embed="rId2"/>
          <a:stretch/>
        </p:blipFill>
        <p:spPr>
          <a:xfrm>
            <a:off x="2666880" y="33526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еверзева</cp:lastModifiedBy>
  <dcterms:modified xsi:type="dcterms:W3CDTF">2010-02-16T19:38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