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gif" ContentType="image/gif"/>
  <Override PartName="/ppt/media/image35.gif" ContentType="image/gif"/>
  <Override PartName="/ppt/media/image25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9.gif" ContentType="image/gif"/>
  <Override PartName="/ppt/media/image10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6.wmf" ContentType="image/x-wmf"/>
  <Override PartName="/ppt/media/image11.png" ContentType="image/png"/>
  <Override PartName="/ppt/media/image30.png" ContentType="image/png"/>
  <Override PartName="/ppt/media/image32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3.gif" ContentType="image/gif"/>
  <Override PartName="/ppt/media/image16.png" ContentType="image/png"/>
  <Override PartName="/ppt/media/image17.gif" ContentType="image/gif"/>
  <Override PartName="/ppt/media/image22.gif" ContentType="image/gif"/>
  <Override PartName="/ppt/media/image15.png" ContentType="image/png"/>
  <Override PartName="/ppt/media/image18.jpeg" ContentType="image/jpeg"/>
  <Override PartName="/ppt/media/image19.gif" ContentType="image/gif"/>
  <Override PartName="/ppt/media/image21.gif" ContentType="image/gif"/>
  <Override PartName="/ppt/media/image14.png" ContentType="image/png"/>
  <Override PartName="/ppt/media/image24.png" ContentType="image/png"/>
  <Override PartName="/ppt/media/image31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EFC6-F5E8-4B7B-9BFD-C961CB32C3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2B42-E940-4B52-8351-E00F814288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9B75-69B8-4AB7-90A6-2ABFAFFC72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D0F6-243F-4E57-933E-FECD2EF46E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CC5A-003A-4C7D-B4CA-12653CFDD3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E8D6-0529-4B28-8301-865224767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EEE3-322A-4F65-9E74-5AE0221CAB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DC0F-02E5-4CF7-98AC-DEAACC92C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A30F-84CE-4D8B-A695-CA206FA1E1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6444-F987-4472-A6EF-C6CE192A3F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F3D-9535-4BB4-A54D-4BF75B1279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49AA-5F14-4B1B-B07E-57A5C5EBDF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BC0C-ECEF-4A1E-9444-9E28F6F239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E3DF-BE3A-4575-96F1-1E7ED964DD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4EE2-14DA-4EDE-9258-BD8CD48C2D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C1FA-7C8B-4609-993C-558BF3E669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FA4-9389-4C4C-9ABE-AD50A4B81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5FA-AF59-4AB4-A1B1-AACB7EFE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95A7E6-7832-4082-90F9-AC00F7A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9C551D-1068-4E24-9E72-CDB3ED63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2C7227-24BD-4991-9801-3DFB5421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2B8257-E43F-4DB6-84B6-707EAB43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F0E18-CC1B-4319-9648-F20EFF39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20D4B-402F-40D6-A1EA-8DE1D662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0CF102-4A90-4E5D-ACB7-9EF6A62F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273745-0231-49E6-811C-305B788E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B11233-151A-4141-BF2E-658338AB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F48-B424-4F87-A034-78325C35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D2D-73A5-4BF4-BC0C-78E0C809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32663-E7BC-49A1-8036-8ABABB42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7CF45-CEB2-4A48-9D0C-1608193B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26773-10C3-4556-B623-71AEF352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A432F-CE61-4308-91A2-08679F00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AA49F-D5B5-4481-BDDB-000A89A4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49E8A-3338-4026-8A35-E7CE650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DEF42-9C9D-45B0-B5D2-D99B71E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495-9896-4E02-BFD8-CF6ADE39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12165-87AC-4EF7-BE13-F4840361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BB856-81F0-4B40-9942-7DB9FCE5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2F0CF-4965-48B4-9C54-B69F60AA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0E96E-A08A-48B7-9F69-B7D6FA36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6159B-7E25-4417-8E7B-FB6E52FA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B1C7-AD63-43E9-BE7C-2ABE20D1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D5ED-2BC1-436F-AB0C-41055958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7D1F-9C32-4D53-8629-33D0AB17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FF76-00F5-4A72-B3C7-88A5417E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350A4-669D-4EBC-9240-DD6BF7FD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023-B194-41D1-AC9C-ADFBA731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04CA-18A2-43FD-B125-F7D6692D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5010-5FC9-4866-B1C6-162275A8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F9A2-EB62-496F-A402-D77B9DBA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BF1E0-3219-4F1E-99ED-3AF204BD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828D-3071-4819-B7E6-930C928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83A6F-A629-47C0-821C-535D8366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8E50-C7DD-4AAD-A558-9CF694DE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E3924-2EC4-42E0-A7F9-DA71384B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BA6AD-B2C5-4B99-AA61-37554C18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0E510-DEAF-4B56-A3F5-6E17A074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EE6-4AD1-4E3F-BDB8-9FBB24AA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36F9D-6C2B-4B63-BA64-D69337BE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F79A2-251C-4BFF-8030-F2211852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71C17-8010-42EE-B31A-D35DF421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B27F7-FE43-4EAC-9AB8-0565A7FE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DB530-FAA2-43D8-AB31-96B164C2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E9BBF-A804-4BFC-8374-7435562B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EB3BB-5069-431E-86C3-CE03255B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9DD45-16EC-4758-9144-93ABBEFB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F95495-8428-463D-8A49-7E591CBD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51F75-5A6C-4C43-AD25-35A801E2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273-951C-451D-8358-5AC4999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D28C-EBBB-45A1-9B19-320CEDFE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96063-3999-4106-9256-C2F9B99F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239A6-0C78-4D12-9CD0-B72222CC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5D164-2CDB-4695-9A4F-C9BA5299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CC85-A830-469E-AEDB-06263DD5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4AA4-0606-4AEC-9915-A9ACDE2B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458B5-8BBF-4575-AB0B-57616EC4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33FD-2103-47A9-AE6A-7FC2D045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72A76-AC06-4746-861B-F3E22BD0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62B0-D9BF-45BE-AFE4-28ECAF5B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FD9-D1AE-4C5F-8E5A-25D65109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49B7A-C010-42D8-A6D5-901500B7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36A7-248F-43BB-B5AB-0979C1D8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01142-681C-4EC7-8485-C706C915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8E75-42C4-4BD7-A7E1-D55B75A8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FCF80-9586-4703-B09E-6339CC36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FCD90-C5FE-44F5-BA36-63E016C7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27B9A-5F59-48C6-84F0-5C16CE94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210EA-F679-4E45-9B97-F9E894A7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61AF0-7EF3-4AA6-B76E-BD55DC9A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F3B08-290F-411D-880C-27AEFFB6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DDB-5E00-44CA-BB8E-559FA780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1926B-2B29-4FC5-A852-11E1CB32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093CD-23D8-47DE-9227-510886C1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17430-0F24-47A8-B2AD-023F890F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C123A-483A-40A3-B793-918E4D3E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24894-C5D2-4B26-8A5B-7A0450CC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D71F-EC2B-46BB-AFF8-0182132B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F7D4D-2E18-42D6-A316-0C0220A4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5BC97-48C7-466B-8224-10E66FB6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7F872-BF0B-45E9-B899-401695DF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53DAB-2904-4BF2-8529-C3143E2D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D89-795E-4248-9DED-A3FAFB1F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6EC5A-33DB-485B-9161-37EFE30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109EB-9902-492A-827A-523E080A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93E31-08B4-42B8-90E0-C9B2C1A1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8A91-DB65-4F55-8AA2-13CE2977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0C39-DAD6-4D38-ABFF-99ADEE6B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9EDEB-2C07-4888-A394-5F52DE49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6C2D78-F5BE-481E-86CD-945FBA88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17E084-39EE-4AB7-B34C-E13C9486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80346E-4A50-4689-A335-003BF2B8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AE6973-476C-4F17-BAEF-CD03E18F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23E-70B1-47B2-8837-A85FD1F9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886123-6737-4449-A2FE-88511C43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B8E5C4-FB1D-41CA-ADB4-38020BB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DD34AF-FC99-4CDC-B145-91F3B37E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53C944-C240-44F5-B716-12D023B0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35A165-2921-4B01-A8E8-1510E3B3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0E601-7D8B-4BA5-9F7A-2E94E9A7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0F1FC-EDF6-4488-B722-4DEC9A45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A3197-D5F2-4827-8C7A-485A9D8A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A13D7E-FB86-4F5E-B253-52395138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A79014-DC61-42E0-90D7-5BD0AC9F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9773-6B3A-4C6C-A314-7CDE58CBCD26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833F-289C-481B-A604-CB52B8708390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E9F2-AC35-412B-95DE-96AC4E6B8EF4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77ED-F667-44F1-85B5-53C23E9318BD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2D39-D4C6-4EBE-87FD-94F414785ECC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E6B5-7CAE-4BBE-9231-26C5096F6A55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37A6-783B-407B-87F5-1E3534B1FC3B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7AA9-FD09-4D08-8BD4-CA7F163FA9C0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4f5e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4f5e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26551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0B0D-8E16-4B4C-AAD9-42BF6F7CF344}" type="slidenum">
              <a:rPr b="0" lang="ru-RU" sz="1600" spc="-1" strike="noStrike">
                <a:solidFill>
                  <a:srgbClr val="626551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1.xm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26.png"/><Relationship Id="rId5" Type="http://schemas.openxmlformats.org/officeDocument/2006/relationships/image" Target="../media/image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26.png"/><Relationship Id="rId5" Type="http://schemas.openxmlformats.org/officeDocument/2006/relationships/image" Target="../media/image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9.gi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5541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0" y="542880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03" name="Picture 3" descr="C:\Users\пользователь\Pictures\анимация\анимации\priroda010[1].gif"/>
          <p:cNvPicPr/>
          <p:nvPr/>
        </p:nvPicPr>
        <p:blipFill>
          <a:blip r:embed="rId2"/>
          <a:stretch/>
        </p:blipFill>
        <p:spPr>
          <a:xfrm>
            <a:off x="142920" y="2786040"/>
            <a:ext cx="460224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1"/>
          <p:cNvSpPr/>
          <p:nvPr/>
        </p:nvSpPr>
        <p:spPr>
          <a:xfrm>
            <a:off x="1739880" y="1785960"/>
            <a:ext cx="5773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физ</a:t>
            </a:r>
            <a:r>
              <a:rPr b="1" lang="ru-RU" sz="6600" spc="-1" strike="noStrike">
                <a:solidFill>
                  <a:srgbClr val="0066ff"/>
                </a:solidFill>
                <a:latin typeface="Cambria"/>
              </a:rPr>
              <a:t>минут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"/>
          <p:cNvSpPr/>
          <p:nvPr/>
        </p:nvSpPr>
        <p:spPr>
          <a:xfrm>
            <a:off x="4643280" y="142920"/>
            <a:ext cx="4286520" cy="75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Задание д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       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2 груп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Из разноцветных фигурок выбрать  те цвета, которы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холодные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остроить (наклеи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домик-зам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ридумать продолжение ска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Стрелка вниз 1">
            <a:hlinkClick r:id="rId1" action="ppaction://hlinksldjump"/>
          </p:cNvPr>
          <p:cNvSpPr/>
          <p:nvPr/>
        </p:nvSpPr>
        <p:spPr>
          <a:xfrm>
            <a:off x="7572240" y="5929200"/>
            <a:ext cx="1214640" cy="69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4"/>
          <p:cNvSpPr/>
          <p:nvPr/>
        </p:nvSpPr>
        <p:spPr>
          <a:xfrm>
            <a:off x="214200" y="142920"/>
            <a:ext cx="4214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Задание д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1 груп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Из разноцветных фигурок выбрать  те цвета, которы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mbria"/>
              </a:rPr>
              <a:t>тёплые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остроить (наклеить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домик-зам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Придумать продолжение ска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3" descr="C:\Users\пользователь\Pictures\анимация\soln[1].gif"/>
          <p:cNvPicPr/>
          <p:nvPr/>
        </p:nvPicPr>
        <p:blipFill>
          <a:blip r:embed="rId2"/>
          <a:stretch/>
        </p:blipFill>
        <p:spPr>
          <a:xfrm>
            <a:off x="4000680" y="285840"/>
            <a:ext cx="1182600" cy="1214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Заголовок 1" descr=""/>
          <p:cNvPicPr/>
          <p:nvPr/>
        </p:nvPicPr>
        <p:blipFill>
          <a:blip r:embed="rId1"/>
          <a:stretch/>
        </p:blipFill>
        <p:spPr>
          <a:xfrm>
            <a:off x="176040" y="249120"/>
            <a:ext cx="8834760" cy="11718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 txBox="1"/>
          <p:nvPr/>
        </p:nvSpPr>
        <p:spPr>
          <a:xfrm>
            <a:off x="3429000" y="1642680"/>
            <a:ext cx="5572080" cy="34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1. Уважай своего товарищ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78080" indent="-478080"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78080" indent="-47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2. Умей каждого выслушат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78080" indent="-47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78080" indent="-47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3. Не согласен – предлагай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Улыбающееся лицо 3"/>
          <p:cNvSpPr/>
          <p:nvPr/>
        </p:nvSpPr>
        <p:spPr>
          <a:xfrm>
            <a:off x="704880" y="1633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Трапеция 4"/>
          <p:cNvSpPr/>
          <p:nvPr/>
        </p:nvSpPr>
        <p:spPr>
          <a:xfrm>
            <a:off x="428760" y="2571840"/>
            <a:ext cx="1500120" cy="1357200"/>
          </a:xfrm>
          <a:custGeom>
            <a:avLst/>
            <a:gdLst>
              <a:gd name="textAreaLeft" fmla="*/ 389880 w 1500120"/>
              <a:gd name="textAreaRight" fmla="*/ 1110240 w 1500120"/>
              <a:gd name="textAreaTop" fmla="*/ 352800 h 1357200"/>
              <a:gd name="textAreaBottom" fmla="*/ 1357200 h 1357200"/>
            </a:gdLst>
            <a:ahLst/>
            <a:rect l="textAreaLeft" t="textAreaTop" r="textAreaRight" b="textAreaBottom"/>
            <a:pathLst>
              <a:path w="1500188" h="1357313">
                <a:moveTo>
                  <a:pt x="0" y="1357313"/>
                </a:moveTo>
                <a:lnTo>
                  <a:pt x="584988" y="0"/>
                </a:lnTo>
                <a:lnTo>
                  <a:pt x="915200" y="0"/>
                </a:lnTo>
                <a:lnTo>
                  <a:pt x="1500188" y="1357313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ая соединительная линия 5"/>
          <p:cNvSpPr/>
          <p:nvPr/>
        </p:nvSpPr>
        <p:spPr>
          <a:xfrm>
            <a:off x="1438200" y="2724120"/>
            <a:ext cx="642960" cy="28584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ая соединительная линия 6"/>
          <p:cNvSpPr/>
          <p:nvPr/>
        </p:nvSpPr>
        <p:spPr>
          <a:xfrm flipV="1">
            <a:off x="357120" y="2714400"/>
            <a:ext cx="642960" cy="2142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ая соединительная линия 7"/>
          <p:cNvSpPr/>
          <p:nvPr/>
        </p:nvSpPr>
        <p:spPr>
          <a:xfrm flipH="1">
            <a:off x="999720" y="3929040"/>
            <a:ext cx="18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ая соединительная линия 8"/>
          <p:cNvSpPr/>
          <p:nvPr/>
        </p:nvSpPr>
        <p:spPr>
          <a:xfrm flipH="1">
            <a:off x="1294920" y="3938760"/>
            <a:ext cx="1800" cy="6426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Хорда 9"/>
          <p:cNvSpPr/>
          <p:nvPr/>
        </p:nvSpPr>
        <p:spPr>
          <a:xfrm rot="17660400">
            <a:off x="1205640" y="443124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Хорда 10"/>
          <p:cNvSpPr/>
          <p:nvPr/>
        </p:nvSpPr>
        <p:spPr>
          <a:xfrm rot="17660400">
            <a:off x="705600" y="443124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ая соединительная линия 11"/>
          <p:cNvSpPr/>
          <p:nvPr/>
        </p:nvSpPr>
        <p:spPr>
          <a:xfrm flipV="1">
            <a:off x="356400" y="2286000"/>
            <a:ext cx="14292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Улыбающееся лицо 13"/>
          <p:cNvSpPr/>
          <p:nvPr/>
        </p:nvSpPr>
        <p:spPr>
          <a:xfrm>
            <a:off x="1500120" y="2214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Трапеция 14"/>
          <p:cNvSpPr/>
          <p:nvPr/>
        </p:nvSpPr>
        <p:spPr>
          <a:xfrm>
            <a:off x="1214280" y="3143160"/>
            <a:ext cx="1500480" cy="1357560"/>
          </a:xfrm>
          <a:custGeom>
            <a:avLst/>
            <a:gdLst>
              <a:gd name="textAreaLeft" fmla="*/ 389880 w 1500480"/>
              <a:gd name="textAreaRight" fmla="*/ 1110600 w 1500480"/>
              <a:gd name="textAreaTop" fmla="*/ 352800 h 1357560"/>
              <a:gd name="textAreaBottom" fmla="*/ 1357920 h 1357560"/>
            </a:gdLst>
            <a:ahLst/>
            <a:rect l="textAreaLeft" t="textAreaTop" r="textAreaRight" b="textAreaBottom"/>
            <a:pathLst>
              <a:path w="1500187" h="1357313">
                <a:moveTo>
                  <a:pt x="0" y="1357313"/>
                </a:moveTo>
                <a:lnTo>
                  <a:pt x="584988" y="0"/>
                </a:lnTo>
                <a:lnTo>
                  <a:pt x="915199" y="0"/>
                </a:lnTo>
                <a:lnTo>
                  <a:pt x="1500187" y="13573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ая соединительная линия 15"/>
          <p:cNvSpPr/>
          <p:nvPr/>
        </p:nvSpPr>
        <p:spPr>
          <a:xfrm flipV="1">
            <a:off x="2143080" y="3000240"/>
            <a:ext cx="642960" cy="28584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ая соединительная линия 16"/>
          <p:cNvSpPr/>
          <p:nvPr/>
        </p:nvSpPr>
        <p:spPr>
          <a:xfrm>
            <a:off x="1071720" y="2857680"/>
            <a:ext cx="714240" cy="4284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ая соединительная линия 17"/>
          <p:cNvSpPr/>
          <p:nvPr/>
        </p:nvSpPr>
        <p:spPr>
          <a:xfrm flipH="1">
            <a:off x="1794960" y="4510080"/>
            <a:ext cx="18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18"/>
          <p:cNvSpPr/>
          <p:nvPr/>
        </p:nvSpPr>
        <p:spPr>
          <a:xfrm flipH="1">
            <a:off x="2080800" y="4510080"/>
            <a:ext cx="18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Хорда 19"/>
          <p:cNvSpPr/>
          <p:nvPr/>
        </p:nvSpPr>
        <p:spPr>
          <a:xfrm rot="17660400">
            <a:off x="2000880" y="5012280"/>
            <a:ext cx="428400" cy="414360"/>
          </a:xfrm>
          <a:custGeom>
            <a:avLst/>
            <a:gdLst>
              <a:gd name="textAreaLeft" fmla="*/ 62640 w 428400"/>
              <a:gd name="textAreaRight" fmla="*/ 365760 w 42840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Хорда 20"/>
          <p:cNvSpPr/>
          <p:nvPr/>
        </p:nvSpPr>
        <p:spPr>
          <a:xfrm rot="17660400">
            <a:off x="1500840" y="5012280"/>
            <a:ext cx="428400" cy="414360"/>
          </a:xfrm>
          <a:custGeom>
            <a:avLst/>
            <a:gdLst>
              <a:gd name="textAreaLeft" fmla="*/ 62640 w 428400"/>
              <a:gd name="textAreaRight" fmla="*/ 365760 w 42840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21"/>
          <p:cNvSpPr/>
          <p:nvPr/>
        </p:nvSpPr>
        <p:spPr>
          <a:xfrm flipV="1">
            <a:off x="1071720" y="2428560"/>
            <a:ext cx="571320" cy="4287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22"/>
          <p:cNvSpPr/>
          <p:nvPr/>
        </p:nvSpPr>
        <p:spPr>
          <a:xfrm flipV="1">
            <a:off x="2857680" y="3357360"/>
            <a:ext cx="142560" cy="50004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Улыбающееся лицо 23"/>
          <p:cNvSpPr/>
          <p:nvPr/>
        </p:nvSpPr>
        <p:spPr>
          <a:xfrm>
            <a:off x="2490840" y="3276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Трапеция 24"/>
          <p:cNvSpPr/>
          <p:nvPr/>
        </p:nvSpPr>
        <p:spPr>
          <a:xfrm>
            <a:off x="2214720" y="4214880"/>
            <a:ext cx="1500120" cy="1357200"/>
          </a:xfrm>
          <a:custGeom>
            <a:avLst/>
            <a:gdLst>
              <a:gd name="textAreaLeft" fmla="*/ 389880 w 1500120"/>
              <a:gd name="textAreaRight" fmla="*/ 1110240 w 1500120"/>
              <a:gd name="textAreaTop" fmla="*/ 352800 h 1357200"/>
              <a:gd name="textAreaBottom" fmla="*/ 1357560 h 1357200"/>
            </a:gdLst>
            <a:ahLst/>
            <a:rect l="textAreaLeft" t="textAreaTop" r="textAreaRight" b="textAreaBottom"/>
            <a:pathLst>
              <a:path w="1500187" h="1357312">
                <a:moveTo>
                  <a:pt x="0" y="1357312"/>
                </a:moveTo>
                <a:lnTo>
                  <a:pt x="584988" y="0"/>
                </a:lnTo>
                <a:lnTo>
                  <a:pt x="915199" y="0"/>
                </a:lnTo>
                <a:lnTo>
                  <a:pt x="1500187" y="13573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25"/>
          <p:cNvSpPr/>
          <p:nvPr/>
        </p:nvSpPr>
        <p:spPr>
          <a:xfrm>
            <a:off x="3214800" y="4357800"/>
            <a:ext cx="428400" cy="50004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26"/>
          <p:cNvSpPr/>
          <p:nvPr/>
        </p:nvSpPr>
        <p:spPr>
          <a:xfrm flipV="1">
            <a:off x="2224080" y="4367160"/>
            <a:ext cx="57168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27"/>
          <p:cNvSpPr/>
          <p:nvPr/>
        </p:nvSpPr>
        <p:spPr>
          <a:xfrm flipH="1">
            <a:off x="2786040" y="5572080"/>
            <a:ext cx="144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28"/>
          <p:cNvSpPr/>
          <p:nvPr/>
        </p:nvSpPr>
        <p:spPr>
          <a:xfrm flipH="1">
            <a:off x="3071880" y="5572080"/>
            <a:ext cx="144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Хорда 29"/>
          <p:cNvSpPr/>
          <p:nvPr/>
        </p:nvSpPr>
        <p:spPr>
          <a:xfrm rot="17660400">
            <a:off x="2991600" y="607428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Хорда 30"/>
          <p:cNvSpPr/>
          <p:nvPr/>
        </p:nvSpPr>
        <p:spPr>
          <a:xfrm rot="17660400">
            <a:off x="2491560" y="607428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рямая соединительная линия 37"/>
          <p:cNvSpPr/>
          <p:nvPr/>
        </p:nvSpPr>
        <p:spPr>
          <a:xfrm flipH="1">
            <a:off x="3643200" y="4143240"/>
            <a:ext cx="214560" cy="7146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Стрелка вверх 39">
            <a:hlinkClick r:id="rId2" action="ppaction://hlinksldjump"/>
          </p:cNvPr>
          <p:cNvSpPr/>
          <p:nvPr/>
        </p:nvSpPr>
        <p:spPr>
          <a:xfrm>
            <a:off x="285840" y="5929200"/>
            <a:ext cx="1071360" cy="621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3" descr="C:\Users\пользователь\Pictures\анимация\преподавание2.gif"/>
          <p:cNvPicPr/>
          <p:nvPr/>
        </p:nvPicPr>
        <p:blipFill>
          <a:blip r:embed="rId3"/>
          <a:stretch/>
        </p:blipFill>
        <p:spPr>
          <a:xfrm>
            <a:off x="5548320" y="4714920"/>
            <a:ext cx="216684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reeform 48"/>
          <p:cNvSpPr/>
          <p:nvPr/>
        </p:nvSpPr>
        <p:spPr>
          <a:xfrm rot="21473400">
            <a:off x="-450360" y="5109840"/>
            <a:ext cx="9864720" cy="2884320"/>
          </a:xfrm>
          <a:custGeom>
            <a:avLst/>
            <a:gdLst>
              <a:gd name="textAreaLeft" fmla="*/ 0 w 9864720"/>
              <a:gd name="textAreaRight" fmla="*/ 9865080 w 9864720"/>
              <a:gd name="textAreaTop" fmla="*/ 0 h 2884320"/>
              <a:gd name="textAreaBottom" fmla="*/ 2884680 h 2884320"/>
            </a:gdLst>
            <a:ahLst/>
            <a:rect l="textAreaLeft" t="textAreaTop" r="textAreaRight" b="textAreaBottom"/>
            <a:pathLst>
              <a:path w="6102" h="1632">
                <a:moveTo>
                  <a:pt x="268" y="735"/>
                </a:moveTo>
                <a:cubicBezTo>
                  <a:pt x="318" y="703"/>
                  <a:pt x="294" y="669"/>
                  <a:pt x="318" y="620"/>
                </a:cubicBezTo>
                <a:cubicBezTo>
                  <a:pt x="335" y="585"/>
                  <a:pt x="365" y="567"/>
                  <a:pt x="400" y="554"/>
                </a:cubicBezTo>
                <a:cubicBezTo>
                  <a:pt x="421" y="534"/>
                  <a:pt x="430" y="522"/>
                  <a:pt x="458" y="513"/>
                </a:cubicBezTo>
                <a:cubicBezTo>
                  <a:pt x="493" y="460"/>
                  <a:pt x="547" y="453"/>
                  <a:pt x="606" y="439"/>
                </a:cubicBezTo>
                <a:cubicBezTo>
                  <a:pt x="614" y="431"/>
                  <a:pt x="624" y="424"/>
                  <a:pt x="631" y="415"/>
                </a:cubicBezTo>
                <a:cubicBezTo>
                  <a:pt x="637" y="407"/>
                  <a:pt x="640" y="397"/>
                  <a:pt x="647" y="390"/>
                </a:cubicBezTo>
                <a:cubicBezTo>
                  <a:pt x="664" y="373"/>
                  <a:pt x="736" y="340"/>
                  <a:pt x="762" y="332"/>
                </a:cubicBezTo>
                <a:cubicBezTo>
                  <a:pt x="798" y="298"/>
                  <a:pt x="756" y="333"/>
                  <a:pt x="812" y="308"/>
                </a:cubicBezTo>
                <a:cubicBezTo>
                  <a:pt x="821" y="304"/>
                  <a:pt x="827" y="295"/>
                  <a:pt x="836" y="291"/>
                </a:cubicBezTo>
                <a:cubicBezTo>
                  <a:pt x="854" y="283"/>
                  <a:pt x="875" y="281"/>
                  <a:pt x="894" y="275"/>
                </a:cubicBezTo>
                <a:cubicBezTo>
                  <a:pt x="996" y="166"/>
                  <a:pt x="1141" y="167"/>
                  <a:pt x="1272" y="118"/>
                </a:cubicBezTo>
                <a:cubicBezTo>
                  <a:pt x="1288" y="95"/>
                  <a:pt x="1308" y="78"/>
                  <a:pt x="1338" y="77"/>
                </a:cubicBezTo>
                <a:cubicBezTo>
                  <a:pt x="1487" y="70"/>
                  <a:pt x="2073" y="62"/>
                  <a:pt x="2145" y="61"/>
                </a:cubicBezTo>
                <a:cubicBezTo>
                  <a:pt x="2306" y="1"/>
                  <a:pt x="2333" y="47"/>
                  <a:pt x="2614" y="52"/>
                </a:cubicBezTo>
                <a:cubicBezTo>
                  <a:pt x="2714" y="79"/>
                  <a:pt x="2599" y="58"/>
                  <a:pt x="2663" y="44"/>
                </a:cubicBezTo>
                <a:cubicBezTo>
                  <a:pt x="2735" y="28"/>
                  <a:pt x="2819" y="25"/>
                  <a:pt x="2893" y="11"/>
                </a:cubicBezTo>
                <a:cubicBezTo>
                  <a:pt x="3737" y="26"/>
                  <a:pt x="3203" y="0"/>
                  <a:pt x="3478" y="44"/>
                </a:cubicBezTo>
                <a:cubicBezTo>
                  <a:pt x="3531" y="82"/>
                  <a:pt x="3529" y="83"/>
                  <a:pt x="3601" y="94"/>
                </a:cubicBezTo>
                <a:cubicBezTo>
                  <a:pt x="3697" y="186"/>
                  <a:pt x="3759" y="164"/>
                  <a:pt x="3905" y="168"/>
                </a:cubicBezTo>
                <a:cubicBezTo>
                  <a:pt x="4067" y="172"/>
                  <a:pt x="4229" y="173"/>
                  <a:pt x="4391" y="176"/>
                </a:cubicBezTo>
                <a:cubicBezTo>
                  <a:pt x="4424" y="187"/>
                  <a:pt x="4435" y="211"/>
                  <a:pt x="4473" y="217"/>
                </a:cubicBezTo>
                <a:cubicBezTo>
                  <a:pt x="4508" y="223"/>
                  <a:pt x="4544" y="222"/>
                  <a:pt x="4580" y="225"/>
                </a:cubicBezTo>
                <a:cubicBezTo>
                  <a:pt x="4597" y="236"/>
                  <a:pt x="4619" y="241"/>
                  <a:pt x="4630" y="258"/>
                </a:cubicBezTo>
                <a:cubicBezTo>
                  <a:pt x="4647" y="284"/>
                  <a:pt x="4673" y="329"/>
                  <a:pt x="4704" y="340"/>
                </a:cubicBezTo>
                <a:cubicBezTo>
                  <a:pt x="4770" y="364"/>
                  <a:pt x="4844" y="372"/>
                  <a:pt x="4909" y="398"/>
                </a:cubicBezTo>
                <a:cubicBezTo>
                  <a:pt x="4923" y="404"/>
                  <a:pt x="4936" y="412"/>
                  <a:pt x="4951" y="415"/>
                </a:cubicBezTo>
                <a:cubicBezTo>
                  <a:pt x="4993" y="423"/>
                  <a:pt x="5200" y="431"/>
                  <a:pt x="5206" y="431"/>
                </a:cubicBezTo>
                <a:cubicBezTo>
                  <a:pt x="5248" y="445"/>
                  <a:pt x="5224" y="433"/>
                  <a:pt x="5271" y="480"/>
                </a:cubicBezTo>
                <a:cubicBezTo>
                  <a:pt x="5277" y="486"/>
                  <a:pt x="5288" y="497"/>
                  <a:pt x="5288" y="497"/>
                </a:cubicBezTo>
                <a:cubicBezTo>
                  <a:pt x="5303" y="558"/>
                  <a:pt x="5282" y="507"/>
                  <a:pt x="5321" y="546"/>
                </a:cubicBezTo>
                <a:cubicBezTo>
                  <a:pt x="5367" y="592"/>
                  <a:pt x="5319" y="573"/>
                  <a:pt x="5378" y="587"/>
                </a:cubicBezTo>
                <a:cubicBezTo>
                  <a:pt x="5404" y="613"/>
                  <a:pt x="5442" y="616"/>
                  <a:pt x="5477" y="628"/>
                </a:cubicBezTo>
                <a:cubicBezTo>
                  <a:pt x="5494" y="634"/>
                  <a:pt x="5527" y="645"/>
                  <a:pt x="5527" y="645"/>
                </a:cubicBezTo>
                <a:cubicBezTo>
                  <a:pt x="5563" y="683"/>
                  <a:pt x="5613" y="694"/>
                  <a:pt x="5658" y="719"/>
                </a:cubicBezTo>
                <a:cubicBezTo>
                  <a:pt x="5696" y="740"/>
                  <a:pt x="5722" y="770"/>
                  <a:pt x="5757" y="793"/>
                </a:cubicBezTo>
                <a:cubicBezTo>
                  <a:pt x="5814" y="829"/>
                  <a:pt x="5881" y="829"/>
                  <a:pt x="5946" y="834"/>
                </a:cubicBezTo>
                <a:cubicBezTo>
                  <a:pt x="6102" y="1632"/>
                  <a:pt x="4384" y="909"/>
                  <a:pt x="3214" y="916"/>
                </a:cubicBezTo>
                <a:cubicBezTo>
                  <a:pt x="2749" y="911"/>
                  <a:pt x="2303" y="899"/>
                  <a:pt x="1840" y="892"/>
                </a:cubicBezTo>
                <a:cubicBezTo>
                  <a:pt x="1531" y="858"/>
                  <a:pt x="1736" y="874"/>
                  <a:pt x="1223" y="884"/>
                </a:cubicBezTo>
                <a:cubicBezTo>
                  <a:pt x="0" y="872"/>
                  <a:pt x="277" y="1193"/>
                  <a:pt x="277" y="744"/>
                </a:cubicBezTo>
                <a:cubicBezTo>
                  <a:pt x="277" y="735"/>
                  <a:pt x="271" y="727"/>
                  <a:pt x="268" y="719"/>
                </a:cubicBezTo>
                <a:cubicBezTo>
                  <a:pt x="304" y="707"/>
                  <a:pt x="299" y="705"/>
                  <a:pt x="268" y="73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3" descr="E:\4.jpg"/>
          <p:cNvPicPr/>
          <p:nvPr/>
        </p:nvPicPr>
        <p:blipFill>
          <a:blip r:embed="rId2">
            <a:lum contrast="20000"/>
          </a:blip>
          <a:srcRect l="54336" t="23959" r="15348" b="44794"/>
          <a:stretch/>
        </p:blipFill>
        <p:spPr>
          <a:xfrm>
            <a:off x="1071720" y="1785960"/>
            <a:ext cx="2549520" cy="36432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" descr="E:\4.jpg"/>
          <p:cNvPicPr/>
          <p:nvPr/>
        </p:nvPicPr>
        <p:blipFill>
          <a:blip r:embed="rId3">
            <a:lum contrast="30000"/>
          </a:blip>
          <a:srcRect l="22571" t="10416" r="48561" b="59376"/>
          <a:stretch/>
        </p:blipFill>
        <p:spPr>
          <a:xfrm>
            <a:off x="5500800" y="1500120"/>
            <a:ext cx="2643120" cy="3832200"/>
          </a:xfrm>
          <a:prstGeom prst="rect">
            <a:avLst/>
          </a:prstGeom>
          <a:ln w="0">
            <a:noFill/>
          </a:ln>
        </p:spPr>
      </p:pic>
      <p:sp>
        <p:nvSpPr>
          <p:cNvPr id="698" name="Трапеция 6"/>
          <p:cNvSpPr/>
          <p:nvPr/>
        </p:nvSpPr>
        <p:spPr>
          <a:xfrm>
            <a:off x="928800" y="507204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Улыбающееся лицо 7"/>
          <p:cNvSpPr/>
          <p:nvPr/>
        </p:nvSpPr>
        <p:spPr>
          <a:xfrm>
            <a:off x="1071720" y="457200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ая соединительная линия 8"/>
          <p:cNvSpPr/>
          <p:nvPr/>
        </p:nvSpPr>
        <p:spPr>
          <a:xfrm flipH="1">
            <a:off x="857160" y="5142960"/>
            <a:ext cx="35712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ая соединительная линия 9"/>
          <p:cNvSpPr/>
          <p:nvPr/>
        </p:nvSpPr>
        <p:spPr>
          <a:xfrm flipH="1" flipV="1">
            <a:off x="1500120" y="5143320"/>
            <a:ext cx="35712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10"/>
          <p:cNvSpPr/>
          <p:nvPr/>
        </p:nvSpPr>
        <p:spPr>
          <a:xfrm flipH="1">
            <a:off x="1212840" y="578808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ая соединительная линия 11"/>
          <p:cNvSpPr/>
          <p:nvPr/>
        </p:nvSpPr>
        <p:spPr>
          <a:xfrm flipH="1">
            <a:off x="1428840" y="5786280"/>
            <a:ext cx="1440" cy="357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Хорда 12"/>
          <p:cNvSpPr/>
          <p:nvPr/>
        </p:nvSpPr>
        <p:spPr>
          <a:xfrm rot="17726400">
            <a:off x="1380960" y="592920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8">
                <a:moveTo>
                  <a:pt x="259285" y="227536"/>
                </a:moveTo>
                <a:lnTo>
                  <a:pt x="259285" y="227536"/>
                </a:lnTo>
                <a:arcTo wR="159544" hR="127794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Хорда 13"/>
          <p:cNvSpPr/>
          <p:nvPr/>
        </p:nvSpPr>
        <p:spPr>
          <a:xfrm rot="17726400">
            <a:off x="961200" y="5928480"/>
            <a:ext cx="339840" cy="287280"/>
          </a:xfrm>
          <a:custGeom>
            <a:avLst/>
            <a:gdLst>
              <a:gd name="textAreaLeft" fmla="*/ 49680 w 339840"/>
              <a:gd name="textAreaRight" fmla="*/ 290160 w 3398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9725" h="287338">
                <a:moveTo>
                  <a:pt x="279557" y="253363"/>
                </a:moveTo>
                <a:lnTo>
                  <a:pt x="279557" y="253363"/>
                </a:lnTo>
                <a:arcTo wR="169863" hR="1436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Трапеция 14"/>
          <p:cNvSpPr/>
          <p:nvPr/>
        </p:nvSpPr>
        <p:spPr>
          <a:xfrm>
            <a:off x="3071880" y="4786200"/>
            <a:ext cx="857160" cy="71460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c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Улыбающееся лицо 15"/>
          <p:cNvSpPr/>
          <p:nvPr/>
        </p:nvSpPr>
        <p:spPr>
          <a:xfrm>
            <a:off x="3214800" y="428616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ая соединительная линия 16"/>
          <p:cNvSpPr/>
          <p:nvPr/>
        </p:nvSpPr>
        <p:spPr>
          <a:xfrm flipH="1">
            <a:off x="2999880" y="4857840"/>
            <a:ext cx="35748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ая соединительная линия 17"/>
          <p:cNvSpPr/>
          <p:nvPr/>
        </p:nvSpPr>
        <p:spPr>
          <a:xfrm flipH="1" flipV="1">
            <a:off x="3642840" y="4857480"/>
            <a:ext cx="35748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ая соединительная линия 18"/>
          <p:cNvSpPr/>
          <p:nvPr/>
        </p:nvSpPr>
        <p:spPr>
          <a:xfrm flipH="1">
            <a:off x="3355560" y="5502240"/>
            <a:ext cx="180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ая соединительная линия 19"/>
          <p:cNvSpPr/>
          <p:nvPr/>
        </p:nvSpPr>
        <p:spPr>
          <a:xfrm flipH="1">
            <a:off x="3571920" y="550080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Хорда 20"/>
          <p:cNvSpPr/>
          <p:nvPr/>
        </p:nvSpPr>
        <p:spPr>
          <a:xfrm rot="17726400">
            <a:off x="3524040" y="564300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8">
                <a:moveTo>
                  <a:pt x="259285" y="227536"/>
                </a:moveTo>
                <a:lnTo>
                  <a:pt x="259285" y="227536"/>
                </a:lnTo>
                <a:arcTo wR="159544" hR="127794" stAng="2700000" swAng="13500000"/>
                <a:close/>
              </a:path>
            </a:pathLst>
          </a:custGeom>
          <a:solidFill>
            <a:srgbClr val="ffc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Хорда 21"/>
          <p:cNvSpPr/>
          <p:nvPr/>
        </p:nvSpPr>
        <p:spPr>
          <a:xfrm rot="17726400">
            <a:off x="3176280" y="5693760"/>
            <a:ext cx="338040" cy="28764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338137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ffc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Трапеция 22"/>
          <p:cNvSpPr/>
          <p:nvPr/>
        </p:nvSpPr>
        <p:spPr>
          <a:xfrm>
            <a:off x="1928880" y="485784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Улыбающееся лицо 23"/>
          <p:cNvSpPr/>
          <p:nvPr/>
        </p:nvSpPr>
        <p:spPr>
          <a:xfrm>
            <a:off x="2071800" y="435780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24"/>
          <p:cNvSpPr/>
          <p:nvPr/>
        </p:nvSpPr>
        <p:spPr>
          <a:xfrm flipH="1">
            <a:off x="1856880" y="4929120"/>
            <a:ext cx="35748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25"/>
          <p:cNvSpPr/>
          <p:nvPr/>
        </p:nvSpPr>
        <p:spPr>
          <a:xfrm flipH="1">
            <a:off x="2499840" y="4857840"/>
            <a:ext cx="428760" cy="712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26"/>
          <p:cNvSpPr/>
          <p:nvPr/>
        </p:nvSpPr>
        <p:spPr>
          <a:xfrm flipH="1">
            <a:off x="2212560" y="5573880"/>
            <a:ext cx="180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27"/>
          <p:cNvSpPr/>
          <p:nvPr/>
        </p:nvSpPr>
        <p:spPr>
          <a:xfrm flipH="1">
            <a:off x="2428920" y="557208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Хорда 28"/>
          <p:cNvSpPr/>
          <p:nvPr/>
        </p:nvSpPr>
        <p:spPr>
          <a:xfrm rot="17726400">
            <a:off x="2381040" y="578592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8">
                <a:moveTo>
                  <a:pt x="259285" y="227536"/>
                </a:moveTo>
                <a:lnTo>
                  <a:pt x="259285" y="227536"/>
                </a:lnTo>
                <a:arcTo wR="159544" hR="127794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Хорда 29"/>
          <p:cNvSpPr/>
          <p:nvPr/>
        </p:nvSpPr>
        <p:spPr>
          <a:xfrm rot="17726400">
            <a:off x="2033280" y="5765400"/>
            <a:ext cx="338040" cy="28764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338138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Трапеция 30"/>
          <p:cNvSpPr/>
          <p:nvPr/>
        </p:nvSpPr>
        <p:spPr>
          <a:xfrm>
            <a:off x="6286680" y="471492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00206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Улыбающееся лицо 31"/>
          <p:cNvSpPr/>
          <p:nvPr/>
        </p:nvSpPr>
        <p:spPr>
          <a:xfrm>
            <a:off x="6429240" y="421488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ая соединительная линия 32"/>
          <p:cNvSpPr/>
          <p:nvPr/>
        </p:nvSpPr>
        <p:spPr>
          <a:xfrm flipH="1">
            <a:off x="6143760" y="4857840"/>
            <a:ext cx="35712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ая соединительная линия 33"/>
          <p:cNvSpPr/>
          <p:nvPr/>
        </p:nvSpPr>
        <p:spPr>
          <a:xfrm flipH="1" flipV="1">
            <a:off x="6857640" y="4785840"/>
            <a:ext cx="428760" cy="357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34"/>
          <p:cNvSpPr/>
          <p:nvPr/>
        </p:nvSpPr>
        <p:spPr>
          <a:xfrm flipH="1">
            <a:off x="6571800" y="5430960"/>
            <a:ext cx="180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ая соединительная линия 35"/>
          <p:cNvSpPr/>
          <p:nvPr/>
        </p:nvSpPr>
        <p:spPr>
          <a:xfrm flipH="1">
            <a:off x="6786720" y="542916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Хорда 36"/>
          <p:cNvSpPr/>
          <p:nvPr/>
        </p:nvSpPr>
        <p:spPr>
          <a:xfrm rot="17726400">
            <a:off x="6738480" y="564300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7">
                <a:moveTo>
                  <a:pt x="259285" y="227535"/>
                </a:moveTo>
                <a:lnTo>
                  <a:pt x="259285" y="227535"/>
                </a:lnTo>
                <a:arcTo wR="159544" hR="127794" stAng="2700000" swAng="13500000"/>
                <a:close/>
              </a:path>
            </a:pathLst>
          </a:custGeom>
          <a:solidFill>
            <a:srgbClr val="00206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Хорда 37"/>
          <p:cNvSpPr/>
          <p:nvPr/>
        </p:nvSpPr>
        <p:spPr>
          <a:xfrm rot="17726400">
            <a:off x="6391080" y="562248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8" h="287338">
                <a:moveTo>
                  <a:pt x="278549" y="253149"/>
                </a:moveTo>
                <a:lnTo>
                  <a:pt x="278549" y="253149"/>
                </a:lnTo>
                <a:arcTo wR="169069" hR="143669" stAng="2700000" swAng="13500000"/>
                <a:close/>
              </a:path>
            </a:pathLst>
          </a:custGeom>
          <a:solidFill>
            <a:srgbClr val="002060"/>
          </a:solidFill>
          <a:ln w="38160">
            <a:solidFill>
              <a:srgbClr val="72a3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Трапеция 38"/>
          <p:cNvSpPr/>
          <p:nvPr/>
        </p:nvSpPr>
        <p:spPr>
          <a:xfrm>
            <a:off x="5072040" y="4786200"/>
            <a:ext cx="857160" cy="71460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00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Улыбающееся лицо 39"/>
          <p:cNvSpPr/>
          <p:nvPr/>
        </p:nvSpPr>
        <p:spPr>
          <a:xfrm>
            <a:off x="5214960" y="428616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ая соединительная линия 40"/>
          <p:cNvSpPr/>
          <p:nvPr/>
        </p:nvSpPr>
        <p:spPr>
          <a:xfrm flipH="1">
            <a:off x="5000760" y="4857840"/>
            <a:ext cx="35712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рямая соединительная линия 41"/>
          <p:cNvSpPr/>
          <p:nvPr/>
        </p:nvSpPr>
        <p:spPr>
          <a:xfrm flipV="1">
            <a:off x="5357880" y="4857840"/>
            <a:ext cx="285840" cy="4284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ая соединительная линия 42"/>
          <p:cNvSpPr/>
          <p:nvPr/>
        </p:nvSpPr>
        <p:spPr>
          <a:xfrm flipH="1">
            <a:off x="5357880" y="550224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ая соединительная линия 43"/>
          <p:cNvSpPr/>
          <p:nvPr/>
        </p:nvSpPr>
        <p:spPr>
          <a:xfrm flipH="1">
            <a:off x="5571720" y="5500800"/>
            <a:ext cx="180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Хорда 44"/>
          <p:cNvSpPr/>
          <p:nvPr/>
        </p:nvSpPr>
        <p:spPr>
          <a:xfrm rot="17726400">
            <a:off x="5524200" y="571500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8">
                <a:moveTo>
                  <a:pt x="259286" y="227536"/>
                </a:moveTo>
                <a:lnTo>
                  <a:pt x="259286" y="227536"/>
                </a:lnTo>
                <a:arcTo wR="159544" hR="127794" stAng="2700000" swAng="13500000"/>
                <a:close/>
              </a:path>
            </a:pathLst>
          </a:custGeom>
          <a:solidFill>
            <a:srgbClr val="00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Хорда 45"/>
          <p:cNvSpPr/>
          <p:nvPr/>
        </p:nvSpPr>
        <p:spPr>
          <a:xfrm rot="17726400">
            <a:off x="5176800" y="569376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7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00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Трапеция 46"/>
          <p:cNvSpPr/>
          <p:nvPr/>
        </p:nvSpPr>
        <p:spPr>
          <a:xfrm>
            <a:off x="7429680" y="4786200"/>
            <a:ext cx="857160" cy="71460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a8cdd7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Улыбающееся лицо 47"/>
          <p:cNvSpPr/>
          <p:nvPr/>
        </p:nvSpPr>
        <p:spPr>
          <a:xfrm>
            <a:off x="7572240" y="428616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ая соединительная линия 48"/>
          <p:cNvSpPr/>
          <p:nvPr/>
        </p:nvSpPr>
        <p:spPr>
          <a:xfrm>
            <a:off x="7716960" y="4859280"/>
            <a:ext cx="141120" cy="42696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ая соединительная линия 49"/>
          <p:cNvSpPr/>
          <p:nvPr/>
        </p:nvSpPr>
        <p:spPr>
          <a:xfrm flipH="1" flipV="1">
            <a:off x="8001000" y="4857480"/>
            <a:ext cx="35712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рямая соединительная линия 50"/>
          <p:cNvSpPr/>
          <p:nvPr/>
        </p:nvSpPr>
        <p:spPr>
          <a:xfrm flipH="1">
            <a:off x="7714800" y="5502240"/>
            <a:ext cx="180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Прямая соединительная линия 51"/>
          <p:cNvSpPr/>
          <p:nvPr/>
        </p:nvSpPr>
        <p:spPr>
          <a:xfrm flipH="1">
            <a:off x="7929720" y="550080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Хорда 52"/>
          <p:cNvSpPr/>
          <p:nvPr/>
        </p:nvSpPr>
        <p:spPr>
          <a:xfrm rot="17726400">
            <a:off x="7881480" y="564300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7">
                <a:moveTo>
                  <a:pt x="259285" y="227535"/>
                </a:moveTo>
                <a:lnTo>
                  <a:pt x="259285" y="227535"/>
                </a:lnTo>
                <a:arcTo wR="159544" hR="127794" stAng="2700000" swAng="13500000"/>
                <a:close/>
              </a:path>
            </a:pathLst>
          </a:custGeom>
          <a:solidFill>
            <a:srgbClr val="a8cdd7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Хорда 53"/>
          <p:cNvSpPr/>
          <p:nvPr/>
        </p:nvSpPr>
        <p:spPr>
          <a:xfrm rot="17726400">
            <a:off x="7534080" y="569376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7" h="287338">
                <a:moveTo>
                  <a:pt x="278548" y="253149"/>
                </a:moveTo>
                <a:lnTo>
                  <a:pt x="278548" y="253149"/>
                </a:lnTo>
                <a:arcTo wR="169069" hR="143669" stAng="2700000" swAng="13500000"/>
                <a:close/>
              </a:path>
            </a:pathLst>
          </a:custGeom>
          <a:solidFill>
            <a:srgbClr val="a8cdd7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"/>
          <p:cNvSpPr/>
          <p:nvPr/>
        </p:nvSpPr>
        <p:spPr>
          <a:xfrm rot="280200">
            <a:off x="5235480" y="153720"/>
            <a:ext cx="3853080" cy="1519200"/>
          </a:xfrm>
          <a:prstGeom prst="cloudCallout">
            <a:avLst>
              <a:gd name="adj1" fmla="val -22134"/>
              <a:gd name="adj2" fmla="val 31115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38"/>
          <p:cNvSpPr/>
          <p:nvPr/>
        </p:nvSpPr>
        <p:spPr>
          <a:xfrm rot="197400">
            <a:off x="4460400" y="855720"/>
            <a:ext cx="2448000" cy="1152360"/>
          </a:xfrm>
          <a:prstGeom prst="cloudCallout">
            <a:avLst>
              <a:gd name="adj1" fmla="val -29509"/>
              <a:gd name="adj2" fmla="val 38157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21"/>
          <p:cNvSpPr/>
          <p:nvPr/>
        </p:nvSpPr>
        <p:spPr>
          <a:xfrm>
            <a:off x="285840" y="357120"/>
            <a:ext cx="1857240" cy="1785960"/>
          </a:xfrm>
          <a:prstGeom prst="sun">
            <a:avLst>
              <a:gd name="adj" fmla="val 2500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58"/>
          <p:cNvSpPr/>
          <p:nvPr/>
        </p:nvSpPr>
        <p:spPr>
          <a:xfrm>
            <a:off x="1737360" y="614376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еп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59"/>
          <p:cNvSpPr/>
          <p:nvPr/>
        </p:nvSpPr>
        <p:spPr>
          <a:xfrm>
            <a:off x="5929200" y="6072120"/>
            <a:ext cx="164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хол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7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6 -0.017 0.02131 -0.021 0.03463 C -0.025 0.04929 -0.027 0.0666 -0.029 0.08392 C -0.031 0.10124 -0.029 0.11589 -0.027 0.13188 C -0.025 0.14653 -0.022 0.16252 -0.015 0.17584 C -0.009 0.18916 0.001 0.19981 0.012 0.20781 C 0.022 0.2158 0.034 0.22113 0.046 0.22379 C 0.058 0.22646 0.07 0.22646 0.081 0.22379 C 0.093 0.22113 0.104 0.21447 0.113 0.20381 C 0.122 0.19449 0.13 0.1825 0.134 0.16784 C 0.139 0.15452 0.141 0.13587 0.141 0.12122 C 0.142 0.10657 0.141 0.08925 0.136 0.0746 C 0.131 0.06128 0.122 0.05062 0.11 0.04529 C 0.098 0.0413 0.086 0.04662 0.078 0.05595 C 0.071 0.06527 0.066 0.07993 0.065 0.09724 C 0.065 0.11456 0.066 0.13055 0.071 0.14387 C 0.076 0.15719 0.075 0.15985 0.095 0.17717 C 0.113 0.19582 0.131 0.19049 0.142 0.19182 C 0.153 0.19182 0.162 0.18649 0.173 0.18117 C 0.185 0.17451 0.195 0.16252 0.202 0.15186 C 0.209 0.1412 0.212 0.12788 0.216 0.10657 C 0.219 0.08525 0.219 0.0746 0.219 0.05861 C 0.219 0.04263 0.219 0.02664 0.219 0.01066 E">
                                      <p:cBhvr>
                                        <p:cTn id="164" dur="20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69 0.00162 0.08611 -0.08719 0.13836 -0.08418 C 0.19062 -0.08117 0.31441 0.02035 0.31389 0.01827 C 0.31336 0.01619 0.18958 -0.09343 0.13541 -0.09644 C 0.08125 -0.09945 -0.01129 -0.00023 -0.01077 0 C -0.01025 0.00023 0.0842 -0.09736 0.13836 -0.09436 C 0.19236 -0.09135 0.31458 0.01827 0.31389 0.01827 C 0.31319 0.01827 0.18715 -0.09228 0.13385 -0.09436 C 0.08055 -0.09644 -0.0007 -0.00162 0 0 Z">
                                      <p:cBhvr>
                                        <p:cTn id="167" dur="5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439800" cy="40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2" name="Picture 2" descr=""/>
          <p:cNvPicPr/>
          <p:nvPr/>
        </p:nvPicPr>
        <p:blipFill>
          <a:blip r:embed="rId2"/>
          <a:stretch/>
        </p:blipFill>
        <p:spPr>
          <a:xfrm>
            <a:off x="4143240" y="3143160"/>
            <a:ext cx="2500560" cy="344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3" name="Picture 2" descr=""/>
          <p:cNvPicPr/>
          <p:nvPr/>
        </p:nvPicPr>
        <p:blipFill>
          <a:blip r:embed="rId3"/>
          <a:srcRect l="0" t="515" r="0" b="216"/>
          <a:stretch/>
        </p:blipFill>
        <p:spPr>
          <a:xfrm>
            <a:off x="4286160" y="285840"/>
            <a:ext cx="4572000" cy="27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4" name="Picture 2" descr="C:\Users\пользователь\Pictures\анимация\хобби2.GIF"/>
          <p:cNvPicPr/>
          <p:nvPr/>
        </p:nvPicPr>
        <p:blipFill>
          <a:blip r:embed="rId4"/>
          <a:stretch/>
        </p:blipFill>
        <p:spPr>
          <a:xfrm>
            <a:off x="6715080" y="5072040"/>
            <a:ext cx="2170080" cy="947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"/>
          <p:cNvPicPr/>
          <p:nvPr/>
        </p:nvPicPr>
        <p:blipFill>
          <a:blip r:embed="rId1">
            <a:lum contrast="20000"/>
          </a:blip>
          <a:srcRect l="0" t="586" r="0" b="-1682"/>
          <a:stretch/>
        </p:blipFill>
        <p:spPr>
          <a:xfrm>
            <a:off x="428760" y="571680"/>
            <a:ext cx="400680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6" name="Picture 2" descr=""/>
          <p:cNvPicPr/>
          <p:nvPr/>
        </p:nvPicPr>
        <p:blipFill>
          <a:blip r:embed="rId2"/>
          <a:srcRect l="0" t="-614" r="0" b="435"/>
          <a:stretch/>
        </p:blipFill>
        <p:spPr>
          <a:xfrm>
            <a:off x="1500120" y="3714840"/>
            <a:ext cx="479268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7" name="Picture 2" descr=""/>
          <p:cNvPicPr/>
          <p:nvPr/>
        </p:nvPicPr>
        <p:blipFill>
          <a:blip r:embed="rId3">
            <a:lum contrast="10000"/>
          </a:blip>
          <a:srcRect l="0" t="-38" r="0" b="-1323"/>
          <a:stretch/>
        </p:blipFill>
        <p:spPr>
          <a:xfrm>
            <a:off x="4714920" y="428760"/>
            <a:ext cx="4071960" cy="314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8" name="Picture 2" descr="C:\Users\пользователь\Desktop\анимации\peopls150[1].gif"/>
          <p:cNvPicPr/>
          <p:nvPr/>
        </p:nvPicPr>
        <p:blipFill>
          <a:blip r:embed="rId4"/>
          <a:stretch/>
        </p:blipFill>
        <p:spPr>
          <a:xfrm>
            <a:off x="7143840" y="4992840"/>
            <a:ext cx="1305000" cy="1322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Freeform 48"/>
          <p:cNvSpPr/>
          <p:nvPr/>
        </p:nvSpPr>
        <p:spPr>
          <a:xfrm rot="21473400">
            <a:off x="-450360" y="5109840"/>
            <a:ext cx="9864720" cy="2884320"/>
          </a:xfrm>
          <a:custGeom>
            <a:avLst/>
            <a:gdLst>
              <a:gd name="textAreaLeft" fmla="*/ 0 w 9864720"/>
              <a:gd name="textAreaRight" fmla="*/ 9865080 w 9864720"/>
              <a:gd name="textAreaTop" fmla="*/ 0 h 2884320"/>
              <a:gd name="textAreaBottom" fmla="*/ 2884680 h 2884320"/>
            </a:gdLst>
            <a:ahLst/>
            <a:rect l="textAreaLeft" t="textAreaTop" r="textAreaRight" b="textAreaBottom"/>
            <a:pathLst>
              <a:path w="6102" h="1632">
                <a:moveTo>
                  <a:pt x="268" y="735"/>
                </a:moveTo>
                <a:cubicBezTo>
                  <a:pt x="318" y="703"/>
                  <a:pt x="294" y="669"/>
                  <a:pt x="318" y="620"/>
                </a:cubicBezTo>
                <a:cubicBezTo>
                  <a:pt x="335" y="585"/>
                  <a:pt x="365" y="567"/>
                  <a:pt x="400" y="554"/>
                </a:cubicBezTo>
                <a:cubicBezTo>
                  <a:pt x="421" y="534"/>
                  <a:pt x="430" y="522"/>
                  <a:pt x="458" y="513"/>
                </a:cubicBezTo>
                <a:cubicBezTo>
                  <a:pt x="493" y="460"/>
                  <a:pt x="547" y="453"/>
                  <a:pt x="606" y="439"/>
                </a:cubicBezTo>
                <a:cubicBezTo>
                  <a:pt x="614" y="431"/>
                  <a:pt x="624" y="424"/>
                  <a:pt x="631" y="415"/>
                </a:cubicBezTo>
                <a:cubicBezTo>
                  <a:pt x="637" y="407"/>
                  <a:pt x="640" y="397"/>
                  <a:pt x="647" y="390"/>
                </a:cubicBezTo>
                <a:cubicBezTo>
                  <a:pt x="664" y="373"/>
                  <a:pt x="736" y="340"/>
                  <a:pt x="762" y="332"/>
                </a:cubicBezTo>
                <a:cubicBezTo>
                  <a:pt x="798" y="298"/>
                  <a:pt x="756" y="333"/>
                  <a:pt x="812" y="308"/>
                </a:cubicBezTo>
                <a:cubicBezTo>
                  <a:pt x="821" y="304"/>
                  <a:pt x="827" y="295"/>
                  <a:pt x="836" y="291"/>
                </a:cubicBezTo>
                <a:cubicBezTo>
                  <a:pt x="854" y="283"/>
                  <a:pt x="875" y="281"/>
                  <a:pt x="894" y="275"/>
                </a:cubicBezTo>
                <a:cubicBezTo>
                  <a:pt x="996" y="166"/>
                  <a:pt x="1141" y="167"/>
                  <a:pt x="1272" y="118"/>
                </a:cubicBezTo>
                <a:cubicBezTo>
                  <a:pt x="1288" y="95"/>
                  <a:pt x="1308" y="78"/>
                  <a:pt x="1338" y="77"/>
                </a:cubicBezTo>
                <a:cubicBezTo>
                  <a:pt x="1487" y="70"/>
                  <a:pt x="2073" y="62"/>
                  <a:pt x="2145" y="61"/>
                </a:cubicBezTo>
                <a:cubicBezTo>
                  <a:pt x="2306" y="1"/>
                  <a:pt x="2333" y="47"/>
                  <a:pt x="2614" y="52"/>
                </a:cubicBezTo>
                <a:cubicBezTo>
                  <a:pt x="2714" y="79"/>
                  <a:pt x="2599" y="58"/>
                  <a:pt x="2663" y="44"/>
                </a:cubicBezTo>
                <a:cubicBezTo>
                  <a:pt x="2735" y="28"/>
                  <a:pt x="2819" y="25"/>
                  <a:pt x="2893" y="11"/>
                </a:cubicBezTo>
                <a:cubicBezTo>
                  <a:pt x="3737" y="26"/>
                  <a:pt x="3203" y="0"/>
                  <a:pt x="3478" y="44"/>
                </a:cubicBezTo>
                <a:cubicBezTo>
                  <a:pt x="3531" y="82"/>
                  <a:pt x="3529" y="83"/>
                  <a:pt x="3601" y="94"/>
                </a:cubicBezTo>
                <a:cubicBezTo>
                  <a:pt x="3697" y="186"/>
                  <a:pt x="3759" y="164"/>
                  <a:pt x="3905" y="168"/>
                </a:cubicBezTo>
                <a:cubicBezTo>
                  <a:pt x="4067" y="172"/>
                  <a:pt x="4229" y="173"/>
                  <a:pt x="4391" y="176"/>
                </a:cubicBezTo>
                <a:cubicBezTo>
                  <a:pt x="4424" y="187"/>
                  <a:pt x="4435" y="211"/>
                  <a:pt x="4473" y="217"/>
                </a:cubicBezTo>
                <a:cubicBezTo>
                  <a:pt x="4508" y="223"/>
                  <a:pt x="4544" y="222"/>
                  <a:pt x="4580" y="225"/>
                </a:cubicBezTo>
                <a:cubicBezTo>
                  <a:pt x="4597" y="236"/>
                  <a:pt x="4619" y="241"/>
                  <a:pt x="4630" y="258"/>
                </a:cubicBezTo>
                <a:cubicBezTo>
                  <a:pt x="4647" y="284"/>
                  <a:pt x="4673" y="329"/>
                  <a:pt x="4704" y="340"/>
                </a:cubicBezTo>
                <a:cubicBezTo>
                  <a:pt x="4770" y="364"/>
                  <a:pt x="4844" y="372"/>
                  <a:pt x="4909" y="398"/>
                </a:cubicBezTo>
                <a:cubicBezTo>
                  <a:pt x="4923" y="404"/>
                  <a:pt x="4936" y="412"/>
                  <a:pt x="4951" y="415"/>
                </a:cubicBezTo>
                <a:cubicBezTo>
                  <a:pt x="4993" y="423"/>
                  <a:pt x="5200" y="431"/>
                  <a:pt x="5206" y="431"/>
                </a:cubicBezTo>
                <a:cubicBezTo>
                  <a:pt x="5248" y="445"/>
                  <a:pt x="5224" y="433"/>
                  <a:pt x="5271" y="480"/>
                </a:cubicBezTo>
                <a:cubicBezTo>
                  <a:pt x="5277" y="486"/>
                  <a:pt x="5288" y="497"/>
                  <a:pt x="5288" y="497"/>
                </a:cubicBezTo>
                <a:cubicBezTo>
                  <a:pt x="5303" y="558"/>
                  <a:pt x="5282" y="507"/>
                  <a:pt x="5321" y="546"/>
                </a:cubicBezTo>
                <a:cubicBezTo>
                  <a:pt x="5367" y="592"/>
                  <a:pt x="5319" y="573"/>
                  <a:pt x="5378" y="587"/>
                </a:cubicBezTo>
                <a:cubicBezTo>
                  <a:pt x="5404" y="613"/>
                  <a:pt x="5442" y="616"/>
                  <a:pt x="5477" y="628"/>
                </a:cubicBezTo>
                <a:cubicBezTo>
                  <a:pt x="5494" y="634"/>
                  <a:pt x="5527" y="645"/>
                  <a:pt x="5527" y="645"/>
                </a:cubicBezTo>
                <a:cubicBezTo>
                  <a:pt x="5563" y="683"/>
                  <a:pt x="5613" y="694"/>
                  <a:pt x="5658" y="719"/>
                </a:cubicBezTo>
                <a:cubicBezTo>
                  <a:pt x="5696" y="740"/>
                  <a:pt x="5722" y="770"/>
                  <a:pt x="5757" y="793"/>
                </a:cubicBezTo>
                <a:cubicBezTo>
                  <a:pt x="5814" y="829"/>
                  <a:pt x="5881" y="829"/>
                  <a:pt x="5946" y="834"/>
                </a:cubicBezTo>
                <a:cubicBezTo>
                  <a:pt x="6102" y="1632"/>
                  <a:pt x="4384" y="909"/>
                  <a:pt x="3214" y="916"/>
                </a:cubicBezTo>
                <a:cubicBezTo>
                  <a:pt x="2749" y="911"/>
                  <a:pt x="2303" y="899"/>
                  <a:pt x="1840" y="892"/>
                </a:cubicBezTo>
                <a:cubicBezTo>
                  <a:pt x="1531" y="858"/>
                  <a:pt x="1736" y="874"/>
                  <a:pt x="1223" y="884"/>
                </a:cubicBezTo>
                <a:cubicBezTo>
                  <a:pt x="0" y="872"/>
                  <a:pt x="277" y="1193"/>
                  <a:pt x="277" y="744"/>
                </a:cubicBezTo>
                <a:cubicBezTo>
                  <a:pt x="277" y="735"/>
                  <a:pt x="271" y="727"/>
                  <a:pt x="268" y="719"/>
                </a:cubicBezTo>
                <a:cubicBezTo>
                  <a:pt x="304" y="707"/>
                  <a:pt x="299" y="705"/>
                  <a:pt x="268" y="73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" descr="E:\4.jpg"/>
          <p:cNvPicPr/>
          <p:nvPr/>
        </p:nvPicPr>
        <p:blipFill>
          <a:blip r:embed="rId2">
            <a:lum contrast="20000"/>
          </a:blip>
          <a:srcRect l="54336" t="23959" r="15348" b="44794"/>
          <a:stretch/>
        </p:blipFill>
        <p:spPr>
          <a:xfrm>
            <a:off x="1071720" y="1785960"/>
            <a:ext cx="2549520" cy="36432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2" descr="E:\4.jpg"/>
          <p:cNvPicPr/>
          <p:nvPr/>
        </p:nvPicPr>
        <p:blipFill>
          <a:blip r:embed="rId3">
            <a:lum contrast="30000"/>
          </a:blip>
          <a:srcRect l="22571" t="10416" r="48561" b="59376"/>
          <a:stretch/>
        </p:blipFill>
        <p:spPr>
          <a:xfrm>
            <a:off x="5500800" y="1500120"/>
            <a:ext cx="2643120" cy="3832200"/>
          </a:xfrm>
          <a:prstGeom prst="rect">
            <a:avLst/>
          </a:prstGeom>
          <a:ln w="0">
            <a:noFill/>
          </a:ln>
        </p:spPr>
      </p:pic>
      <p:sp>
        <p:nvSpPr>
          <p:cNvPr id="762" name="Трапеция 6"/>
          <p:cNvSpPr/>
          <p:nvPr/>
        </p:nvSpPr>
        <p:spPr>
          <a:xfrm>
            <a:off x="928800" y="507204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Улыбающееся лицо 7"/>
          <p:cNvSpPr/>
          <p:nvPr/>
        </p:nvSpPr>
        <p:spPr>
          <a:xfrm>
            <a:off x="1071720" y="457200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ая соединительная линия 8"/>
          <p:cNvSpPr/>
          <p:nvPr/>
        </p:nvSpPr>
        <p:spPr>
          <a:xfrm flipH="1">
            <a:off x="857160" y="5142960"/>
            <a:ext cx="35712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ая соединительная линия 9"/>
          <p:cNvSpPr/>
          <p:nvPr/>
        </p:nvSpPr>
        <p:spPr>
          <a:xfrm flipH="1" flipV="1">
            <a:off x="1500120" y="5143320"/>
            <a:ext cx="35712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ая соединительная линия 10"/>
          <p:cNvSpPr/>
          <p:nvPr/>
        </p:nvSpPr>
        <p:spPr>
          <a:xfrm flipH="1">
            <a:off x="1212840" y="578808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ая соединительная линия 11"/>
          <p:cNvSpPr/>
          <p:nvPr/>
        </p:nvSpPr>
        <p:spPr>
          <a:xfrm flipH="1">
            <a:off x="1428840" y="5786280"/>
            <a:ext cx="1440" cy="357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Хорда 12"/>
          <p:cNvSpPr/>
          <p:nvPr/>
        </p:nvSpPr>
        <p:spPr>
          <a:xfrm rot="17726400">
            <a:off x="1380960" y="592920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8">
                <a:moveTo>
                  <a:pt x="259285" y="227536"/>
                </a:moveTo>
                <a:lnTo>
                  <a:pt x="259285" y="227536"/>
                </a:lnTo>
                <a:arcTo wR="159544" hR="127794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Хорда 13"/>
          <p:cNvSpPr/>
          <p:nvPr/>
        </p:nvSpPr>
        <p:spPr>
          <a:xfrm rot="17726400">
            <a:off x="961200" y="5928480"/>
            <a:ext cx="339840" cy="287280"/>
          </a:xfrm>
          <a:custGeom>
            <a:avLst/>
            <a:gdLst>
              <a:gd name="textAreaLeft" fmla="*/ 49680 w 339840"/>
              <a:gd name="textAreaRight" fmla="*/ 290160 w 3398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9725" h="287338">
                <a:moveTo>
                  <a:pt x="279557" y="253363"/>
                </a:moveTo>
                <a:lnTo>
                  <a:pt x="279557" y="253363"/>
                </a:lnTo>
                <a:arcTo wR="169863" hR="1436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Трапеция 14"/>
          <p:cNvSpPr/>
          <p:nvPr/>
        </p:nvSpPr>
        <p:spPr>
          <a:xfrm>
            <a:off x="3071880" y="4786200"/>
            <a:ext cx="857160" cy="71460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c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Улыбающееся лицо 15"/>
          <p:cNvSpPr/>
          <p:nvPr/>
        </p:nvSpPr>
        <p:spPr>
          <a:xfrm>
            <a:off x="3214800" y="428616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16"/>
          <p:cNvSpPr/>
          <p:nvPr/>
        </p:nvSpPr>
        <p:spPr>
          <a:xfrm flipH="1">
            <a:off x="2999880" y="4857840"/>
            <a:ext cx="35748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17"/>
          <p:cNvSpPr/>
          <p:nvPr/>
        </p:nvSpPr>
        <p:spPr>
          <a:xfrm flipH="1" flipV="1">
            <a:off x="3642840" y="4857480"/>
            <a:ext cx="35748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Прямая соединительная линия 18"/>
          <p:cNvSpPr/>
          <p:nvPr/>
        </p:nvSpPr>
        <p:spPr>
          <a:xfrm flipH="1">
            <a:off x="3355560" y="5502240"/>
            <a:ext cx="180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ая соединительная линия 19"/>
          <p:cNvSpPr/>
          <p:nvPr/>
        </p:nvSpPr>
        <p:spPr>
          <a:xfrm flipH="1">
            <a:off x="3571920" y="550080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Хорда 20"/>
          <p:cNvSpPr/>
          <p:nvPr/>
        </p:nvSpPr>
        <p:spPr>
          <a:xfrm rot="17726400">
            <a:off x="3524040" y="564300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8">
                <a:moveTo>
                  <a:pt x="259285" y="227536"/>
                </a:moveTo>
                <a:lnTo>
                  <a:pt x="259285" y="227536"/>
                </a:lnTo>
                <a:arcTo wR="159544" hR="127794" stAng="2700000" swAng="13500000"/>
                <a:close/>
              </a:path>
            </a:pathLst>
          </a:custGeom>
          <a:solidFill>
            <a:srgbClr val="ffc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Хорда 21"/>
          <p:cNvSpPr/>
          <p:nvPr/>
        </p:nvSpPr>
        <p:spPr>
          <a:xfrm rot="17726400">
            <a:off x="3176280" y="5693760"/>
            <a:ext cx="338040" cy="28764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338137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ffc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Трапеция 22"/>
          <p:cNvSpPr/>
          <p:nvPr/>
        </p:nvSpPr>
        <p:spPr>
          <a:xfrm>
            <a:off x="1928880" y="485784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Улыбающееся лицо 23"/>
          <p:cNvSpPr/>
          <p:nvPr/>
        </p:nvSpPr>
        <p:spPr>
          <a:xfrm>
            <a:off x="2071800" y="435780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ая соединительная линия 24"/>
          <p:cNvSpPr/>
          <p:nvPr/>
        </p:nvSpPr>
        <p:spPr>
          <a:xfrm flipH="1">
            <a:off x="1856880" y="4929120"/>
            <a:ext cx="35748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ая соединительная линия 25"/>
          <p:cNvSpPr/>
          <p:nvPr/>
        </p:nvSpPr>
        <p:spPr>
          <a:xfrm flipH="1">
            <a:off x="2499840" y="4857840"/>
            <a:ext cx="428760" cy="712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ая соединительная линия 26"/>
          <p:cNvSpPr/>
          <p:nvPr/>
        </p:nvSpPr>
        <p:spPr>
          <a:xfrm flipH="1">
            <a:off x="2212560" y="5573880"/>
            <a:ext cx="180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ая соединительная линия 27"/>
          <p:cNvSpPr/>
          <p:nvPr/>
        </p:nvSpPr>
        <p:spPr>
          <a:xfrm flipH="1">
            <a:off x="2428920" y="557208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Хорда 28"/>
          <p:cNvSpPr/>
          <p:nvPr/>
        </p:nvSpPr>
        <p:spPr>
          <a:xfrm rot="17726400">
            <a:off x="2381040" y="578592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8">
                <a:moveTo>
                  <a:pt x="259285" y="227536"/>
                </a:moveTo>
                <a:lnTo>
                  <a:pt x="259285" y="227536"/>
                </a:lnTo>
                <a:arcTo wR="159544" hR="127794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Хорда 29"/>
          <p:cNvSpPr/>
          <p:nvPr/>
        </p:nvSpPr>
        <p:spPr>
          <a:xfrm rot="17726400">
            <a:off x="2033280" y="5765400"/>
            <a:ext cx="338040" cy="28764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338138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Трапеция 30"/>
          <p:cNvSpPr/>
          <p:nvPr/>
        </p:nvSpPr>
        <p:spPr>
          <a:xfrm>
            <a:off x="6286680" y="471492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00206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Улыбающееся лицо 31"/>
          <p:cNvSpPr/>
          <p:nvPr/>
        </p:nvSpPr>
        <p:spPr>
          <a:xfrm>
            <a:off x="6429240" y="421488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ая соединительная линия 32"/>
          <p:cNvSpPr/>
          <p:nvPr/>
        </p:nvSpPr>
        <p:spPr>
          <a:xfrm flipH="1">
            <a:off x="6143760" y="4857840"/>
            <a:ext cx="35712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ая соединительная линия 33"/>
          <p:cNvSpPr/>
          <p:nvPr/>
        </p:nvSpPr>
        <p:spPr>
          <a:xfrm flipH="1" flipV="1">
            <a:off x="6857640" y="4785840"/>
            <a:ext cx="428760" cy="357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ая соединительная линия 34"/>
          <p:cNvSpPr/>
          <p:nvPr/>
        </p:nvSpPr>
        <p:spPr>
          <a:xfrm flipH="1">
            <a:off x="6571800" y="5430960"/>
            <a:ext cx="180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ая соединительная линия 35"/>
          <p:cNvSpPr/>
          <p:nvPr/>
        </p:nvSpPr>
        <p:spPr>
          <a:xfrm flipH="1">
            <a:off x="6786720" y="542916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Хорда 36"/>
          <p:cNvSpPr/>
          <p:nvPr/>
        </p:nvSpPr>
        <p:spPr>
          <a:xfrm rot="17726400">
            <a:off x="6738480" y="564300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7">
                <a:moveTo>
                  <a:pt x="259285" y="227535"/>
                </a:moveTo>
                <a:lnTo>
                  <a:pt x="259285" y="227535"/>
                </a:lnTo>
                <a:arcTo wR="159544" hR="127794" stAng="2700000" swAng="13500000"/>
                <a:close/>
              </a:path>
            </a:pathLst>
          </a:custGeom>
          <a:solidFill>
            <a:srgbClr val="00206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Хорда 37"/>
          <p:cNvSpPr/>
          <p:nvPr/>
        </p:nvSpPr>
        <p:spPr>
          <a:xfrm rot="17726400">
            <a:off x="6391080" y="562248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8" h="287338">
                <a:moveTo>
                  <a:pt x="278549" y="253149"/>
                </a:moveTo>
                <a:lnTo>
                  <a:pt x="278549" y="253149"/>
                </a:lnTo>
                <a:arcTo wR="169069" hR="143669" stAng="2700000" swAng="13500000"/>
                <a:close/>
              </a:path>
            </a:pathLst>
          </a:custGeom>
          <a:solidFill>
            <a:srgbClr val="002060"/>
          </a:solidFill>
          <a:ln w="38160">
            <a:solidFill>
              <a:srgbClr val="72a3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Трапеция 38"/>
          <p:cNvSpPr/>
          <p:nvPr/>
        </p:nvSpPr>
        <p:spPr>
          <a:xfrm>
            <a:off x="5072040" y="4786200"/>
            <a:ext cx="857160" cy="71460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00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Улыбающееся лицо 39"/>
          <p:cNvSpPr/>
          <p:nvPr/>
        </p:nvSpPr>
        <p:spPr>
          <a:xfrm>
            <a:off x="5214960" y="428616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ая соединительная линия 40"/>
          <p:cNvSpPr/>
          <p:nvPr/>
        </p:nvSpPr>
        <p:spPr>
          <a:xfrm flipH="1">
            <a:off x="5000760" y="4857840"/>
            <a:ext cx="35712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ая соединительная линия 41"/>
          <p:cNvSpPr/>
          <p:nvPr/>
        </p:nvSpPr>
        <p:spPr>
          <a:xfrm flipV="1">
            <a:off x="5357880" y="4857840"/>
            <a:ext cx="285840" cy="4284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ая соединительная линия 42"/>
          <p:cNvSpPr/>
          <p:nvPr/>
        </p:nvSpPr>
        <p:spPr>
          <a:xfrm flipH="1">
            <a:off x="5357880" y="550224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ая соединительная линия 43"/>
          <p:cNvSpPr/>
          <p:nvPr/>
        </p:nvSpPr>
        <p:spPr>
          <a:xfrm flipH="1">
            <a:off x="5571720" y="5500800"/>
            <a:ext cx="180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Хорда 44"/>
          <p:cNvSpPr/>
          <p:nvPr/>
        </p:nvSpPr>
        <p:spPr>
          <a:xfrm rot="17726400">
            <a:off x="5524200" y="571500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8">
                <a:moveTo>
                  <a:pt x="259286" y="227536"/>
                </a:moveTo>
                <a:lnTo>
                  <a:pt x="259286" y="227536"/>
                </a:lnTo>
                <a:arcTo wR="159544" hR="127794" stAng="2700000" swAng="13500000"/>
                <a:close/>
              </a:path>
            </a:pathLst>
          </a:custGeom>
          <a:solidFill>
            <a:srgbClr val="00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Хорда 45"/>
          <p:cNvSpPr/>
          <p:nvPr/>
        </p:nvSpPr>
        <p:spPr>
          <a:xfrm rot="17726400">
            <a:off x="5176800" y="569376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7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00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Трапеция 46"/>
          <p:cNvSpPr/>
          <p:nvPr/>
        </p:nvSpPr>
        <p:spPr>
          <a:xfrm>
            <a:off x="7429680" y="4786200"/>
            <a:ext cx="857160" cy="71460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a8cdd7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Улыбающееся лицо 47"/>
          <p:cNvSpPr/>
          <p:nvPr/>
        </p:nvSpPr>
        <p:spPr>
          <a:xfrm>
            <a:off x="7572240" y="428616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ая соединительная линия 48"/>
          <p:cNvSpPr/>
          <p:nvPr/>
        </p:nvSpPr>
        <p:spPr>
          <a:xfrm>
            <a:off x="7716960" y="4859280"/>
            <a:ext cx="141120" cy="42696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ая соединительная линия 49"/>
          <p:cNvSpPr/>
          <p:nvPr/>
        </p:nvSpPr>
        <p:spPr>
          <a:xfrm flipH="1" flipV="1">
            <a:off x="8001000" y="4857480"/>
            <a:ext cx="35712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ая соединительная линия 50"/>
          <p:cNvSpPr/>
          <p:nvPr/>
        </p:nvSpPr>
        <p:spPr>
          <a:xfrm flipH="1">
            <a:off x="7714800" y="5502240"/>
            <a:ext cx="180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ая соединительная линия 51"/>
          <p:cNvSpPr/>
          <p:nvPr/>
        </p:nvSpPr>
        <p:spPr>
          <a:xfrm flipH="1">
            <a:off x="7929720" y="550080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Хорда 52"/>
          <p:cNvSpPr/>
          <p:nvPr/>
        </p:nvSpPr>
        <p:spPr>
          <a:xfrm rot="17726400">
            <a:off x="7881480" y="564300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7">
                <a:moveTo>
                  <a:pt x="259285" y="227535"/>
                </a:moveTo>
                <a:lnTo>
                  <a:pt x="259285" y="227535"/>
                </a:lnTo>
                <a:arcTo wR="159544" hR="127794" stAng="2700000" swAng="13500000"/>
                <a:close/>
              </a:path>
            </a:pathLst>
          </a:custGeom>
          <a:solidFill>
            <a:srgbClr val="a8cdd7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Хорда 53"/>
          <p:cNvSpPr/>
          <p:nvPr/>
        </p:nvSpPr>
        <p:spPr>
          <a:xfrm rot="17726400">
            <a:off x="7534080" y="569376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7" h="287338">
                <a:moveTo>
                  <a:pt x="278548" y="253149"/>
                </a:moveTo>
                <a:lnTo>
                  <a:pt x="278548" y="253149"/>
                </a:lnTo>
                <a:arcTo wR="169069" hR="143669" stAng="2700000" swAng="13500000"/>
                <a:close/>
              </a:path>
            </a:pathLst>
          </a:custGeom>
          <a:solidFill>
            <a:srgbClr val="a8cdd7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 rot="280200">
            <a:off x="5235480" y="153720"/>
            <a:ext cx="3853080" cy="1519200"/>
          </a:xfrm>
          <a:prstGeom prst="cloudCallout">
            <a:avLst>
              <a:gd name="adj1" fmla="val -22134"/>
              <a:gd name="adj2" fmla="val 31115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38"/>
          <p:cNvSpPr/>
          <p:nvPr/>
        </p:nvSpPr>
        <p:spPr>
          <a:xfrm rot="197400">
            <a:off x="4460400" y="855720"/>
            <a:ext cx="2448000" cy="1152360"/>
          </a:xfrm>
          <a:prstGeom prst="cloudCallout">
            <a:avLst>
              <a:gd name="adj1" fmla="val -29509"/>
              <a:gd name="adj2" fmla="val 38157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21"/>
          <p:cNvSpPr/>
          <p:nvPr/>
        </p:nvSpPr>
        <p:spPr>
          <a:xfrm>
            <a:off x="285840" y="357120"/>
            <a:ext cx="1857240" cy="1785960"/>
          </a:xfrm>
          <a:prstGeom prst="sun">
            <a:avLst>
              <a:gd name="adj" fmla="val 2500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8"/>
          <p:cNvSpPr/>
          <p:nvPr/>
        </p:nvSpPr>
        <p:spPr>
          <a:xfrm>
            <a:off x="1737360" y="614376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еп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59"/>
          <p:cNvSpPr/>
          <p:nvPr/>
        </p:nvSpPr>
        <p:spPr>
          <a:xfrm>
            <a:off x="5929200" y="6072120"/>
            <a:ext cx="164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хол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250" autoRev="1" fill="hold"/>
                                        <p:tgtEl>
                                          <p:spTgt spid="8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6 -0.017 0.02131 -0.021 0.03463 C -0.025 0.04929 -0.027 0.0666 -0.029 0.08392 C -0.031 0.10124 -0.029 0.11589 -0.027 0.13188 C -0.025 0.14653 -0.022 0.16252 -0.015 0.17584 C -0.009 0.18916 0.001 0.19981 0.012 0.20781 C 0.022 0.2158 0.034 0.22113 0.046 0.22379 C 0.058 0.22646 0.07 0.22646 0.081 0.22379 C 0.093 0.22113 0.104 0.21447 0.113 0.20381 C 0.122 0.19449 0.13 0.1825 0.134 0.16784 C 0.139 0.15452 0.141 0.13587 0.141 0.12122 C 0.142 0.10657 0.141 0.08925 0.136 0.0746 C 0.131 0.06128 0.122 0.05062 0.11 0.04529 C 0.098 0.0413 0.086 0.04662 0.078 0.05595 C 0.071 0.06527 0.066 0.07993 0.065 0.09724 C 0.065 0.11456 0.066 0.13055 0.071 0.14387 C 0.076 0.15719 0.075 0.15985 0.095 0.17717 C 0.113 0.19582 0.131 0.19049 0.142 0.19182 C 0.153 0.19182 0.162 0.18649 0.173 0.18117 C 0.185 0.17451 0.195 0.16252 0.202 0.15186 C 0.209 0.1412 0.212 0.12788 0.216 0.10657 C 0.219 0.08525 0.219 0.0746 0.219 0.05861 C 0.219 0.04263 0.219 0.02664 0.219 0.01066 E">
                                      <p:cBhvr>
                                        <p:cTn id="177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69 0.00162 0.08611 -0.08719 0.13836 -0.08418 C 0.19062 -0.08117 0.31441 0.02035 0.31389 0.01827 C 0.31336 0.01619 0.18958 -0.09343 0.13541 -0.09644 C 0.08125 -0.09945 -0.01129 -0.00023 -0.01077 0 C -0.01025 0.00023 0.0842 -0.09736 0.13836 -0.09436 C 0.19236 -0.09135 0.31458 0.01827 0.31389 0.01827 C 0.31319 0.01827 0.18715 -0.09228 0.13385 -0.09436 C 0.08055 -0.09644 -0.0007 -0.00162 0 0 Z">
                                      <p:cBhvr>
                                        <p:cTn id="180" dur="5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J0237555"/>
          <p:cNvPicPr/>
          <p:nvPr/>
        </p:nvPicPr>
        <p:blipFill>
          <a:blip r:embed="rId1"/>
          <a:stretch/>
        </p:blipFill>
        <p:spPr>
          <a:xfrm>
            <a:off x="428760" y="928800"/>
            <a:ext cx="8280360" cy="5616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642960" y="357120"/>
            <a:ext cx="6858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mbria"/>
              </a:rPr>
              <a:t>Сказка о краска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38"/>
          <p:cNvSpPr/>
          <p:nvPr/>
        </p:nvSpPr>
        <p:spPr>
          <a:xfrm rot="197400">
            <a:off x="2174400" y="1427040"/>
            <a:ext cx="2448000" cy="1152720"/>
          </a:xfrm>
          <a:prstGeom prst="cloudCallout">
            <a:avLst>
              <a:gd name="adj1" fmla="val -29509"/>
              <a:gd name="adj2" fmla="val 3815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48"/>
          <p:cNvSpPr/>
          <p:nvPr/>
        </p:nvSpPr>
        <p:spPr>
          <a:xfrm rot="21473400">
            <a:off x="-522000" y="5038200"/>
            <a:ext cx="9864720" cy="2884680"/>
          </a:xfrm>
          <a:custGeom>
            <a:avLst/>
            <a:gdLst>
              <a:gd name="textAreaLeft" fmla="*/ 0 w 9864720"/>
              <a:gd name="textAreaRight" fmla="*/ 9865080 w 9864720"/>
              <a:gd name="textAreaTop" fmla="*/ 0 h 2884680"/>
              <a:gd name="textAreaBottom" fmla="*/ 2884680 h 2884680"/>
            </a:gdLst>
            <a:ahLst/>
            <a:rect l="textAreaLeft" t="textAreaTop" r="textAreaRight" b="textAreaBottom"/>
            <a:pathLst>
              <a:path w="6102" h="1632">
                <a:moveTo>
                  <a:pt x="268" y="735"/>
                </a:moveTo>
                <a:cubicBezTo>
                  <a:pt x="318" y="703"/>
                  <a:pt x="294" y="669"/>
                  <a:pt x="318" y="620"/>
                </a:cubicBezTo>
                <a:cubicBezTo>
                  <a:pt x="335" y="585"/>
                  <a:pt x="365" y="567"/>
                  <a:pt x="400" y="554"/>
                </a:cubicBezTo>
                <a:cubicBezTo>
                  <a:pt x="421" y="534"/>
                  <a:pt x="430" y="522"/>
                  <a:pt x="458" y="513"/>
                </a:cubicBezTo>
                <a:cubicBezTo>
                  <a:pt x="493" y="460"/>
                  <a:pt x="547" y="453"/>
                  <a:pt x="606" y="439"/>
                </a:cubicBezTo>
                <a:cubicBezTo>
                  <a:pt x="614" y="431"/>
                  <a:pt x="624" y="424"/>
                  <a:pt x="631" y="415"/>
                </a:cubicBezTo>
                <a:cubicBezTo>
                  <a:pt x="637" y="407"/>
                  <a:pt x="640" y="397"/>
                  <a:pt x="647" y="390"/>
                </a:cubicBezTo>
                <a:cubicBezTo>
                  <a:pt x="664" y="373"/>
                  <a:pt x="736" y="340"/>
                  <a:pt x="762" y="332"/>
                </a:cubicBezTo>
                <a:cubicBezTo>
                  <a:pt x="798" y="298"/>
                  <a:pt x="756" y="333"/>
                  <a:pt x="812" y="308"/>
                </a:cubicBezTo>
                <a:cubicBezTo>
                  <a:pt x="821" y="304"/>
                  <a:pt x="827" y="295"/>
                  <a:pt x="836" y="291"/>
                </a:cubicBezTo>
                <a:cubicBezTo>
                  <a:pt x="854" y="283"/>
                  <a:pt x="875" y="281"/>
                  <a:pt x="894" y="275"/>
                </a:cubicBezTo>
                <a:cubicBezTo>
                  <a:pt x="996" y="166"/>
                  <a:pt x="1141" y="167"/>
                  <a:pt x="1272" y="118"/>
                </a:cubicBezTo>
                <a:cubicBezTo>
                  <a:pt x="1288" y="95"/>
                  <a:pt x="1308" y="78"/>
                  <a:pt x="1338" y="77"/>
                </a:cubicBezTo>
                <a:cubicBezTo>
                  <a:pt x="1487" y="70"/>
                  <a:pt x="2073" y="62"/>
                  <a:pt x="2145" y="61"/>
                </a:cubicBezTo>
                <a:cubicBezTo>
                  <a:pt x="2306" y="1"/>
                  <a:pt x="2333" y="47"/>
                  <a:pt x="2614" y="52"/>
                </a:cubicBezTo>
                <a:cubicBezTo>
                  <a:pt x="2714" y="79"/>
                  <a:pt x="2599" y="58"/>
                  <a:pt x="2663" y="44"/>
                </a:cubicBezTo>
                <a:cubicBezTo>
                  <a:pt x="2735" y="28"/>
                  <a:pt x="2819" y="25"/>
                  <a:pt x="2893" y="11"/>
                </a:cubicBezTo>
                <a:cubicBezTo>
                  <a:pt x="3737" y="26"/>
                  <a:pt x="3203" y="0"/>
                  <a:pt x="3478" y="44"/>
                </a:cubicBezTo>
                <a:cubicBezTo>
                  <a:pt x="3531" y="82"/>
                  <a:pt x="3529" y="83"/>
                  <a:pt x="3601" y="94"/>
                </a:cubicBezTo>
                <a:cubicBezTo>
                  <a:pt x="3697" y="186"/>
                  <a:pt x="3759" y="164"/>
                  <a:pt x="3905" y="168"/>
                </a:cubicBezTo>
                <a:cubicBezTo>
                  <a:pt x="4067" y="172"/>
                  <a:pt x="4229" y="173"/>
                  <a:pt x="4391" y="176"/>
                </a:cubicBezTo>
                <a:cubicBezTo>
                  <a:pt x="4424" y="187"/>
                  <a:pt x="4435" y="211"/>
                  <a:pt x="4473" y="217"/>
                </a:cubicBezTo>
                <a:cubicBezTo>
                  <a:pt x="4508" y="223"/>
                  <a:pt x="4544" y="222"/>
                  <a:pt x="4580" y="225"/>
                </a:cubicBezTo>
                <a:cubicBezTo>
                  <a:pt x="4597" y="236"/>
                  <a:pt x="4619" y="241"/>
                  <a:pt x="4630" y="258"/>
                </a:cubicBezTo>
                <a:cubicBezTo>
                  <a:pt x="4647" y="284"/>
                  <a:pt x="4673" y="329"/>
                  <a:pt x="4704" y="340"/>
                </a:cubicBezTo>
                <a:cubicBezTo>
                  <a:pt x="4770" y="364"/>
                  <a:pt x="4844" y="372"/>
                  <a:pt x="4909" y="398"/>
                </a:cubicBezTo>
                <a:cubicBezTo>
                  <a:pt x="4923" y="404"/>
                  <a:pt x="4936" y="412"/>
                  <a:pt x="4951" y="415"/>
                </a:cubicBezTo>
                <a:cubicBezTo>
                  <a:pt x="4993" y="423"/>
                  <a:pt x="5200" y="431"/>
                  <a:pt x="5206" y="431"/>
                </a:cubicBezTo>
                <a:cubicBezTo>
                  <a:pt x="5248" y="445"/>
                  <a:pt x="5224" y="433"/>
                  <a:pt x="5271" y="480"/>
                </a:cubicBezTo>
                <a:cubicBezTo>
                  <a:pt x="5277" y="486"/>
                  <a:pt x="5288" y="497"/>
                  <a:pt x="5288" y="497"/>
                </a:cubicBezTo>
                <a:cubicBezTo>
                  <a:pt x="5303" y="558"/>
                  <a:pt x="5282" y="507"/>
                  <a:pt x="5321" y="546"/>
                </a:cubicBezTo>
                <a:cubicBezTo>
                  <a:pt x="5367" y="592"/>
                  <a:pt x="5319" y="573"/>
                  <a:pt x="5378" y="587"/>
                </a:cubicBezTo>
                <a:cubicBezTo>
                  <a:pt x="5404" y="613"/>
                  <a:pt x="5442" y="616"/>
                  <a:pt x="5477" y="628"/>
                </a:cubicBezTo>
                <a:cubicBezTo>
                  <a:pt x="5494" y="634"/>
                  <a:pt x="5527" y="645"/>
                  <a:pt x="5527" y="645"/>
                </a:cubicBezTo>
                <a:cubicBezTo>
                  <a:pt x="5563" y="683"/>
                  <a:pt x="5613" y="694"/>
                  <a:pt x="5658" y="719"/>
                </a:cubicBezTo>
                <a:cubicBezTo>
                  <a:pt x="5696" y="740"/>
                  <a:pt x="5722" y="770"/>
                  <a:pt x="5757" y="793"/>
                </a:cubicBezTo>
                <a:cubicBezTo>
                  <a:pt x="5814" y="829"/>
                  <a:pt x="5881" y="829"/>
                  <a:pt x="5946" y="834"/>
                </a:cubicBezTo>
                <a:cubicBezTo>
                  <a:pt x="6102" y="1632"/>
                  <a:pt x="4384" y="909"/>
                  <a:pt x="3214" y="916"/>
                </a:cubicBezTo>
                <a:cubicBezTo>
                  <a:pt x="2749" y="911"/>
                  <a:pt x="2303" y="899"/>
                  <a:pt x="1840" y="892"/>
                </a:cubicBezTo>
                <a:cubicBezTo>
                  <a:pt x="1531" y="858"/>
                  <a:pt x="1736" y="874"/>
                  <a:pt x="1223" y="884"/>
                </a:cubicBezTo>
                <a:cubicBezTo>
                  <a:pt x="0" y="872"/>
                  <a:pt x="277" y="1193"/>
                  <a:pt x="277" y="744"/>
                </a:cubicBezTo>
                <a:cubicBezTo>
                  <a:pt x="277" y="735"/>
                  <a:pt x="271" y="727"/>
                  <a:pt x="268" y="719"/>
                </a:cubicBezTo>
                <a:cubicBezTo>
                  <a:pt x="304" y="707"/>
                  <a:pt x="299" y="705"/>
                  <a:pt x="268" y="73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Улыбающееся лицо 31"/>
          <p:cNvSpPr/>
          <p:nvPr/>
        </p:nvSpPr>
        <p:spPr>
          <a:xfrm>
            <a:off x="6634080" y="28479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2dcc1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Трапеция 32"/>
          <p:cNvSpPr/>
          <p:nvPr/>
        </p:nvSpPr>
        <p:spPr>
          <a:xfrm>
            <a:off x="6357960" y="3786120"/>
            <a:ext cx="1500120" cy="1357560"/>
          </a:xfrm>
          <a:custGeom>
            <a:avLst/>
            <a:gdLst>
              <a:gd name="textAreaLeft" fmla="*/ 389880 w 1500120"/>
              <a:gd name="textAreaRight" fmla="*/ 1110240 w 1500120"/>
              <a:gd name="textAreaTop" fmla="*/ 352800 h 1357560"/>
              <a:gd name="textAreaBottom" fmla="*/ 1357920 h 1357560"/>
            </a:gdLst>
            <a:ahLst/>
            <a:rect l="textAreaLeft" t="textAreaTop" r="textAreaRight" b="textAreaBottom"/>
            <a:pathLst>
              <a:path w="1500187" h="1357312">
                <a:moveTo>
                  <a:pt x="0" y="1357312"/>
                </a:moveTo>
                <a:lnTo>
                  <a:pt x="584988" y="0"/>
                </a:lnTo>
                <a:lnTo>
                  <a:pt x="915199" y="0"/>
                </a:lnTo>
                <a:lnTo>
                  <a:pt x="1500187" y="13573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33"/>
          <p:cNvSpPr/>
          <p:nvPr/>
        </p:nvSpPr>
        <p:spPr>
          <a:xfrm>
            <a:off x="7358040" y="3929040"/>
            <a:ext cx="642960" cy="28584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34"/>
          <p:cNvSpPr/>
          <p:nvPr/>
        </p:nvSpPr>
        <p:spPr>
          <a:xfrm flipV="1">
            <a:off x="6286680" y="3928680"/>
            <a:ext cx="642600" cy="2142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35"/>
          <p:cNvSpPr/>
          <p:nvPr/>
        </p:nvSpPr>
        <p:spPr>
          <a:xfrm flipH="1">
            <a:off x="6928920" y="5143680"/>
            <a:ext cx="1800" cy="6426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36"/>
          <p:cNvSpPr/>
          <p:nvPr/>
        </p:nvSpPr>
        <p:spPr>
          <a:xfrm flipH="1">
            <a:off x="7214760" y="5143680"/>
            <a:ext cx="1800" cy="6426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Хорда 37"/>
          <p:cNvSpPr/>
          <p:nvPr/>
        </p:nvSpPr>
        <p:spPr>
          <a:xfrm rot="17660400">
            <a:off x="7134840" y="564552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Хорда 38"/>
          <p:cNvSpPr/>
          <p:nvPr/>
        </p:nvSpPr>
        <p:spPr>
          <a:xfrm rot="17660400">
            <a:off x="6634800" y="564552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4"/>
          <p:cNvSpPr/>
          <p:nvPr/>
        </p:nvSpPr>
        <p:spPr>
          <a:xfrm>
            <a:off x="428760" y="14292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Жили – были </a:t>
            </a: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желтая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красная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lang="ru-RU" sz="3200" spc="-1" strike="noStrike">
                <a:solidFill>
                  <a:srgbClr val="0070c0"/>
                </a:solidFill>
                <a:latin typeface="Cambria"/>
              </a:rPr>
              <a:t>синяя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крас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еселились они. Играли на лужай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1" descr="b39"/>
          <p:cNvPicPr/>
          <p:nvPr/>
        </p:nvPicPr>
        <p:blipFill>
          <a:blip r:embed="rId3"/>
          <a:stretch/>
        </p:blipFill>
        <p:spPr>
          <a:xfrm>
            <a:off x="357120" y="5786280"/>
            <a:ext cx="865080" cy="87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1" descr="b39"/>
          <p:cNvPicPr/>
          <p:nvPr/>
        </p:nvPicPr>
        <p:blipFill>
          <a:blip r:embed="rId4"/>
          <a:stretch/>
        </p:blipFill>
        <p:spPr>
          <a:xfrm>
            <a:off x="2928960" y="5786280"/>
            <a:ext cx="865080" cy="874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1" descr="b39"/>
          <p:cNvPicPr/>
          <p:nvPr/>
        </p:nvPicPr>
        <p:blipFill>
          <a:blip r:embed="rId5"/>
          <a:stretch/>
        </p:blipFill>
        <p:spPr>
          <a:xfrm>
            <a:off x="7715160" y="5715000"/>
            <a:ext cx="865440" cy="874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8" descr="klever"/>
          <p:cNvPicPr/>
          <p:nvPr/>
        </p:nvPicPr>
        <p:blipFill>
          <a:blip r:embed="rId6"/>
          <a:stretch/>
        </p:blipFill>
        <p:spPr>
          <a:xfrm flipH="1" rot="57600">
            <a:off x="5158800" y="4870080"/>
            <a:ext cx="1371600" cy="1976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1" descr="b39"/>
          <p:cNvPicPr/>
          <p:nvPr/>
        </p:nvPicPr>
        <p:blipFill>
          <a:blip r:embed="rId7"/>
          <a:stretch/>
        </p:blipFill>
        <p:spPr>
          <a:xfrm>
            <a:off x="4214880" y="5838840"/>
            <a:ext cx="1008000" cy="101916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21"/>
          <p:cNvSpPr/>
          <p:nvPr/>
        </p:nvSpPr>
        <p:spPr>
          <a:xfrm>
            <a:off x="285840" y="1285920"/>
            <a:ext cx="1000080" cy="1000080"/>
          </a:xfrm>
          <a:prstGeom prst="sun">
            <a:avLst>
              <a:gd name="adj" fmla="val 2500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Улыбающееся лицо 69"/>
          <p:cNvSpPr/>
          <p:nvPr/>
        </p:nvSpPr>
        <p:spPr>
          <a:xfrm>
            <a:off x="1776240" y="2419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Трапеция 70"/>
          <p:cNvSpPr/>
          <p:nvPr/>
        </p:nvSpPr>
        <p:spPr>
          <a:xfrm>
            <a:off x="1500120" y="3357720"/>
            <a:ext cx="1500120" cy="1357200"/>
          </a:xfrm>
          <a:custGeom>
            <a:avLst/>
            <a:gdLst>
              <a:gd name="textAreaLeft" fmla="*/ 389880 w 1500120"/>
              <a:gd name="textAreaRight" fmla="*/ 1110240 w 1500120"/>
              <a:gd name="textAreaTop" fmla="*/ 352800 h 1357200"/>
              <a:gd name="textAreaBottom" fmla="*/ 1357560 h 1357200"/>
            </a:gdLst>
            <a:ahLst/>
            <a:rect l="textAreaLeft" t="textAreaTop" r="textAreaRight" b="textAreaBottom"/>
            <a:pathLst>
              <a:path w="1500187" h="1357312">
                <a:moveTo>
                  <a:pt x="0" y="1357312"/>
                </a:moveTo>
                <a:lnTo>
                  <a:pt x="584988" y="0"/>
                </a:lnTo>
                <a:lnTo>
                  <a:pt x="915199" y="0"/>
                </a:lnTo>
                <a:lnTo>
                  <a:pt x="1500187" y="1357312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71"/>
          <p:cNvSpPr/>
          <p:nvPr/>
        </p:nvSpPr>
        <p:spPr>
          <a:xfrm>
            <a:off x="2500200" y="3500280"/>
            <a:ext cx="642960" cy="28584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72"/>
          <p:cNvSpPr/>
          <p:nvPr/>
        </p:nvSpPr>
        <p:spPr>
          <a:xfrm flipV="1">
            <a:off x="1428840" y="3500280"/>
            <a:ext cx="642960" cy="2145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73"/>
          <p:cNvSpPr/>
          <p:nvPr/>
        </p:nvSpPr>
        <p:spPr>
          <a:xfrm flipH="1">
            <a:off x="2071800" y="4714920"/>
            <a:ext cx="144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74"/>
          <p:cNvSpPr/>
          <p:nvPr/>
        </p:nvSpPr>
        <p:spPr>
          <a:xfrm flipH="1">
            <a:off x="2356920" y="4714920"/>
            <a:ext cx="18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Хорда 75"/>
          <p:cNvSpPr/>
          <p:nvPr/>
        </p:nvSpPr>
        <p:spPr>
          <a:xfrm rot="17660400">
            <a:off x="2277360" y="5217120"/>
            <a:ext cx="428400" cy="414360"/>
          </a:xfrm>
          <a:custGeom>
            <a:avLst/>
            <a:gdLst>
              <a:gd name="textAreaLeft" fmla="*/ 62640 w 428400"/>
              <a:gd name="textAreaRight" fmla="*/ 365760 w 42840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Хорда 76"/>
          <p:cNvSpPr/>
          <p:nvPr/>
        </p:nvSpPr>
        <p:spPr>
          <a:xfrm rot="17660400">
            <a:off x="1777320" y="5217120"/>
            <a:ext cx="428400" cy="414000"/>
          </a:xfrm>
          <a:custGeom>
            <a:avLst/>
            <a:gdLst>
              <a:gd name="textAreaLeft" fmla="*/ 62640 w 428400"/>
              <a:gd name="textAreaRight" fmla="*/ 365760 w 428400"/>
              <a:gd name="textAreaTop" fmla="*/ 60480 h 414000"/>
              <a:gd name="textAreaBottom" fmla="*/ 353520 h 41400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Улыбающееся лицо 93"/>
          <p:cNvSpPr/>
          <p:nvPr/>
        </p:nvSpPr>
        <p:spPr>
          <a:xfrm>
            <a:off x="3990960" y="213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2dcc1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Трапеция 94"/>
          <p:cNvSpPr/>
          <p:nvPr/>
        </p:nvSpPr>
        <p:spPr>
          <a:xfrm>
            <a:off x="3714840" y="3071880"/>
            <a:ext cx="1500120" cy="1357200"/>
          </a:xfrm>
          <a:custGeom>
            <a:avLst/>
            <a:gdLst>
              <a:gd name="textAreaLeft" fmla="*/ 389880 w 1500120"/>
              <a:gd name="textAreaRight" fmla="*/ 1110240 w 1500120"/>
              <a:gd name="textAreaTop" fmla="*/ 352800 h 1357200"/>
              <a:gd name="textAreaBottom" fmla="*/ 1357560 h 1357200"/>
            </a:gdLst>
            <a:ahLst/>
            <a:rect l="textAreaLeft" t="textAreaTop" r="textAreaRight" b="textAreaBottom"/>
            <a:pathLst>
              <a:path w="1500188" h="1357312">
                <a:moveTo>
                  <a:pt x="0" y="1357312"/>
                </a:moveTo>
                <a:lnTo>
                  <a:pt x="584988" y="0"/>
                </a:lnTo>
                <a:lnTo>
                  <a:pt x="915200" y="0"/>
                </a:lnTo>
                <a:lnTo>
                  <a:pt x="1500188" y="1357312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95"/>
          <p:cNvSpPr/>
          <p:nvPr/>
        </p:nvSpPr>
        <p:spPr>
          <a:xfrm>
            <a:off x="4714920" y="3214800"/>
            <a:ext cx="642960" cy="28548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96"/>
          <p:cNvSpPr/>
          <p:nvPr/>
        </p:nvSpPr>
        <p:spPr>
          <a:xfrm flipV="1">
            <a:off x="3643200" y="3214440"/>
            <a:ext cx="642960" cy="2142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97"/>
          <p:cNvSpPr/>
          <p:nvPr/>
        </p:nvSpPr>
        <p:spPr>
          <a:xfrm flipH="1">
            <a:off x="4285800" y="4429080"/>
            <a:ext cx="18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98"/>
          <p:cNvSpPr/>
          <p:nvPr/>
        </p:nvSpPr>
        <p:spPr>
          <a:xfrm flipH="1">
            <a:off x="4572000" y="4429080"/>
            <a:ext cx="144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Хорда 99"/>
          <p:cNvSpPr/>
          <p:nvPr/>
        </p:nvSpPr>
        <p:spPr>
          <a:xfrm rot="17660400">
            <a:off x="4491720" y="493128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Хорда 100"/>
          <p:cNvSpPr/>
          <p:nvPr/>
        </p:nvSpPr>
        <p:spPr>
          <a:xfrm rot="17660400">
            <a:off x="3991680" y="493128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483 -0.02845 -0.14965 -0.05666 -0.16875 -0.09551 C -0.18785 -0.13437 -0.14531 -0.2204 -0.11493 -0.23266 C -0.08455 -0.24491 -0.01493 -0.20722 0.01337 -0.16906 C 0.04167 -0.1309 0.0783 -0.03862 0.05521 -0.00393 C 0.03212 0.03076 -0.0467 0.03515 -0.12535 0.03978 E">
                                      <p:cBhvr>
                                        <p:cTn id="10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483 -0.02845 -0.14965 -0.05666 -0.16875 -0.09551 C -0.18785 -0.13437 -0.14531 -0.2204 -0.11493 -0.23266 C -0.08455 -0.24491 -0.01493 -0.20722 0.01337 -0.16906 C 0.04167 -0.1309 0.0783 -0.03862 0.05521 -0.00393 C 0.03212 0.03076 -0.0467 0.03515 -0.12535 0.03978 E">
                                      <p:cBhvr>
                                        <p:cTn id="12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483 -0.02845 -0.14965 -0.05666 -0.16875 -0.09551 C -0.18785 -0.13437 -0.14531 -0.2204 -0.11493 -0.23266 C -0.08455 -0.24491 -0.01493 -0.20722 0.01337 -0.16906 C 0.04167 -0.1309 0.0783 -0.03862 0.05521 -0.00393 C 0.03212 0.03076 -0.0467 0.03515 -0.12535 0.03978 E">
                                      <p:cBhvr>
                                        <p:cTn id="14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483 -0.02845 -0.14965 -0.05666 -0.16875 -0.09551 C -0.18785 -0.13437 -0.14531 -0.2204 -0.11493 -0.23266 C -0.08455 -0.24491 -0.01493 -0.20722 0.01337 -0.16906 C 0.04167 -0.1309 0.0783 -0.03862 0.05521 -0.00393 C 0.03212 0.03076 -0.0467 0.03515 -0.12535 0.03978 E">
                                      <p:cBhvr>
                                        <p:cTn id="16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483 -0.02845 -0.14965 -0.05666 -0.16875 -0.09551 C -0.18785 -0.13437 -0.14531 -0.2204 -0.11493 -0.23266 C -0.08455 -0.24491 -0.01493 -0.20722 0.01337 -0.16906 C 0.04167 -0.1309 0.0783 -0.03862 0.05521 -0.00393 C 0.03212 0.03076 -0.0467 0.03515 -0.12535 0.03978 E">
                                      <p:cBhvr>
                                        <p:cTn id="18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483 -0.02845 -0.14965 -0.05666 -0.16875 -0.09551 C -0.18785 -0.13437 -0.14531 -0.2204 -0.11493 -0.23266 C -0.08455 -0.24491 -0.01493 -0.20722 0.01337 -0.16906 C 0.04167 -0.1309 0.0783 -0.03862 0.05521 -0.00393 C 0.03212 0.03076 -0.0467 0.03515 -0.12535 0.03978 E">
                                      <p:cBhvr>
                                        <p:cTn id="20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483 -0.02845 -0.14965 -0.05666 -0.16875 -0.09551 C -0.18785 -0.13437 -0.14531 -0.2204 -0.11493 -0.23266 C -0.08455 -0.24491 -0.01493 -0.20722 0.01337 -0.16906 C 0.04167 -0.1309 0.0783 -0.03862 0.05521 -0.00393 C 0.03212 0.03076 -0.0467 0.03515 -0.12535 0.03978 E">
                                      <p:cBhvr>
                                        <p:cTn id="22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483 -0.02845 -0.14965 -0.05666 -0.16875 -0.09551 C -0.18785 -0.13437 -0.14531 -0.2204 -0.11493 -0.23266 C -0.08455 -0.24491 -0.01493 -0.20722 0.01337 -0.16906 C 0.04167 -0.1309 0.0783 -0.03862 0.05521 -0.00393 C 0.03212 0.03076 -0.0467 0.03515 -0.12535 0.03978 E">
                                      <p:cBhvr>
                                        <p:cTn id="24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083 -0.02983 0.14184 -0.05966 0.15677 -0.09736 C 0.1717 -0.13506 0.12691 -0.19958 0.08958 -0.22664 C 0.05225 -0.2537 -0.029 -0.26896 -0.06719 -0.2604 C -0.10539 -0.25185 -0.12136 -0.22317 -0.14028 -0.17483 C -0.15921 -0.1265 -0.21459 0.01758 -0.18056 0.02984 C -0.14653 0.04209 -0.04115 -0.0296 0.06423 -0.10129 E">
                                      <p:cBhvr>
                                        <p:cTn id="28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083 -0.02983 0.14184 -0.05966 0.15677 -0.09736 C 0.1717 -0.13506 0.12691 -0.19958 0.08958 -0.22664 C 0.05225 -0.2537 -0.029 -0.26896 -0.06719 -0.2604 C -0.10539 -0.25185 -0.12136 -0.22317 -0.14028 -0.17483 C -0.15921 -0.1265 -0.21459 0.01758 -0.18056 0.02984 C -0.14653 0.04209 -0.04115 -0.0296 0.06423 -0.10129 E">
                                      <p:cBhvr>
                                        <p:cTn id="30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083 -0.02983 0.14184 -0.05966 0.15677 -0.09736 C 0.1717 -0.13506 0.12691 -0.19958 0.08958 -0.22664 C 0.05225 -0.2537 -0.029 -0.26896 -0.06719 -0.2604 C -0.10539 -0.25185 -0.12136 -0.22317 -0.14028 -0.17483 C -0.15921 -0.1265 -0.21459 0.01758 -0.18056 0.02984 C -0.14653 0.04209 -0.04115 -0.0296 0.06423 -0.10129 E">
                                      <p:cBhvr>
                                        <p:cTn id="32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083 -0.02983 0.14184 -0.05966 0.15677 -0.09736 C 0.1717 -0.13506 0.12691 -0.19958 0.08958 -0.22664 C 0.05225 -0.2537 -0.029 -0.26896 -0.06719 -0.2604 C -0.10539 -0.25185 -0.12136 -0.22317 -0.14028 -0.17483 C -0.15921 -0.1265 -0.21459 0.01758 -0.18056 0.02984 C -0.14653 0.04209 -0.04115 -0.0296 0.06423 -0.10129 E">
                                      <p:cBhvr>
                                        <p:cTn id="3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083 -0.02983 0.14184 -0.05966 0.15677 -0.09736 C 0.1717 -0.13506 0.12691 -0.19958 0.08958 -0.22664 C 0.05225 -0.2537 -0.029 -0.26896 -0.06719 -0.2604 C -0.10539 -0.25185 -0.12136 -0.22317 -0.14028 -0.17483 C -0.15921 -0.1265 -0.21459 0.01758 -0.18056 0.02984 C -0.14653 0.04209 -0.04115 -0.0296 0.06423 -0.10129 E">
                                      <p:cBhvr>
                                        <p:cTn id="36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083 -0.02983 0.14184 -0.05966 0.15677 -0.09736 C 0.1717 -0.13506 0.12691 -0.19958 0.08958 -0.22664 C 0.05225 -0.2537 -0.029 -0.26896 -0.06719 -0.2604 C -0.10539 -0.25185 -0.12136 -0.22317 -0.14028 -0.17483 C -0.15921 -0.1265 -0.21459 0.01758 -0.18056 0.02984 C -0.14653 0.04209 -0.04115 -0.0296 0.06423 -0.10129 E">
                                      <p:cBhvr>
                                        <p:cTn id="38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083 -0.02983 0.14184 -0.05966 0.15677 -0.09736 C 0.1717 -0.13506 0.12691 -0.19958 0.08958 -0.22664 C 0.05225 -0.2537 -0.029 -0.26896 -0.06719 -0.2604 C -0.10539 -0.25185 -0.12136 -0.22317 -0.14028 -0.17483 C -0.15921 -0.1265 -0.21459 0.01758 -0.18056 0.02984 C -0.14653 0.04209 -0.04115 -0.0296 0.06423 -0.10129 E">
                                      <p:cBhvr>
                                        <p:cTn id="40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083 -0.02983 0.14184 -0.05966 0.15677 -0.09736 C 0.1717 -0.13506 0.12691 -0.19958 0.08958 -0.22664 C 0.05225 -0.2537 -0.029 -0.26896 -0.06719 -0.2604 C -0.10539 -0.25185 -0.12136 -0.22317 -0.14028 -0.17483 C -0.15921 -0.1265 -0.21459 0.01758 -0.18056 0.02984 C -0.14653 0.04209 -0.04115 -0.0296 0.06423 -0.10129 E">
                                      <p:cBhvr>
                                        <p:cTn id="42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452 0.0333 -0.10886 0.06684 -0.14167 0.04371 C -0.17448 0.02059 -0.21546 -0.09644 -0.19688 -0.13922 C -0.1783 -0.182 -0.07414 -0.22965 -0.02969 -0.21276 C 0.01475 -0.19588 0.07326 -0.08302 0.07031 -0.03769 C 0.06736 0.00763 -0.01372 0.05574 -0.04775 0.05967 C -0.08177 0.0636 -0.11511 -0.01827 -0.13421 -0.01387 C -0.1533 -0.00948 -0.17344 0.06337 -0.16268 0.08557 C -0.15191 0.10777 -0.11112 0.11355 -0.07014 0.11934 E">
                                      <p:cBhvr>
                                        <p:cTn id="46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452 0.0333 -0.10886 0.06684 -0.14167 0.04371 C -0.17448 0.02059 -0.21546 -0.09644 -0.19688 -0.13922 C -0.1783 -0.182 -0.07414 -0.22965 -0.02969 -0.21276 C 0.01475 -0.19588 0.07326 -0.08302 0.07031 -0.03769 C 0.06736 0.00763 -0.01372 0.05574 -0.04775 0.05967 C -0.08177 0.0636 -0.11511 -0.01827 -0.13421 -0.01387 C -0.1533 -0.00948 -0.17344 0.06337 -0.16268 0.08557 C -0.15191 0.10777 -0.11112 0.11355 -0.07014 0.11934 E">
                                      <p:cBhvr>
                                        <p:cTn id="48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452 0.0333 -0.10886 0.06684 -0.14167 0.04371 C -0.17448 0.02059 -0.21546 -0.09644 -0.19688 -0.13922 C -0.1783 -0.182 -0.07414 -0.22965 -0.02969 -0.21276 C 0.01475 -0.19588 0.07326 -0.08302 0.07031 -0.03769 C 0.06736 0.00763 -0.01372 0.05574 -0.04775 0.05967 C -0.08177 0.0636 -0.11511 -0.01827 -0.13421 -0.01387 C -0.1533 -0.00948 -0.17344 0.06337 -0.16268 0.08557 C -0.15191 0.10777 -0.11112 0.11355 -0.07014 0.11934 E">
                                      <p:cBhvr>
                                        <p:cTn id="5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452 0.0333 -0.10886 0.06684 -0.14167 0.04371 C -0.17448 0.02059 -0.21546 -0.09644 -0.19688 -0.13922 C -0.1783 -0.182 -0.07414 -0.22965 -0.02969 -0.21276 C 0.01475 -0.19588 0.07326 -0.08302 0.07031 -0.03769 C 0.06736 0.00763 -0.01372 0.05574 -0.04775 0.05967 C -0.08177 0.0636 -0.11511 -0.01827 -0.13421 -0.01387 C -0.1533 -0.00948 -0.17344 0.06337 -0.16268 0.08557 C -0.15191 0.10777 -0.11112 0.11355 -0.07014 0.11934 E">
                                      <p:cBhvr>
                                        <p:cTn id="5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452 0.0333 -0.10886 0.06684 -0.14167 0.04371 C -0.17448 0.02059 -0.21546 -0.09644 -0.19688 -0.13922 C -0.1783 -0.182 -0.07414 -0.22965 -0.02969 -0.21276 C 0.01475 -0.19588 0.07326 -0.08302 0.07031 -0.03769 C 0.06736 0.00763 -0.01372 0.05574 -0.04775 0.05967 C -0.08177 0.0636 -0.11511 -0.01827 -0.13421 -0.01387 C -0.1533 -0.00948 -0.17344 0.06337 -0.16268 0.08557 C -0.15191 0.10777 -0.11112 0.11355 -0.07014 0.11934 E">
                                      <p:cBhvr>
                                        <p:cTn id="54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452 0.0333 -0.10886 0.06684 -0.14167 0.04371 C -0.17448 0.02059 -0.21546 -0.09644 -0.19688 -0.13922 C -0.1783 -0.182 -0.07414 -0.22965 -0.02969 -0.21276 C 0.01475 -0.19588 0.07326 -0.08302 0.07031 -0.03769 C 0.06736 0.00763 -0.01372 0.05574 -0.04775 0.05967 C -0.08177 0.0636 -0.11511 -0.01827 -0.13421 -0.01387 C -0.1533 -0.00948 -0.17344 0.06337 -0.16268 0.08557 C -0.15191 0.10777 -0.11112 0.11355 -0.07014 0.11934 E">
                                      <p:cBhvr>
                                        <p:cTn id="56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452 0.0333 -0.10886 0.06684 -0.14167 0.04371 C -0.17448 0.02059 -0.21546 -0.09644 -0.19688 -0.13922 C -0.1783 -0.182 -0.07414 -0.22965 -0.02969 -0.21276 C 0.01475 -0.19588 0.07326 -0.08302 0.07031 -0.03769 C 0.06736 0.00763 -0.01372 0.05574 -0.04775 0.05967 C -0.08177 0.0636 -0.11511 -0.01827 -0.13421 -0.01387 C -0.1533 -0.00948 -0.17344 0.06337 -0.16268 0.08557 C -0.15191 0.10777 -0.11112 0.11355 -0.07014 0.11934 E">
                                      <p:cBhvr>
                                        <p:cTn id="58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452 0.0333 -0.10886 0.06684 -0.14167 0.04371 C -0.17448 0.02059 -0.21546 -0.09644 -0.19688 -0.13922 C -0.1783 -0.182 -0.07414 -0.22965 -0.02969 -0.21276 C 0.01475 -0.19588 0.07326 -0.08302 0.07031 -0.03769 C 0.06736 0.00763 -0.01372 0.05574 -0.04775 0.05967 C -0.08177 0.0636 -0.11511 -0.01827 -0.13421 -0.01387 C -0.1533 -0.00948 -0.17344 0.06337 -0.16268 0.08557 C -0.15191 0.10777 -0.11112 0.11355 -0.07014 0.11934 E">
                                      <p:cBhvr>
                                        <p:cTn id="60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path" presetID="3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5 0.0419 L -0.00174 0.14259 C 0.0177 0.16551 0.04687 0.17847 0.07725 0.17847 C 0.11198 0.17847 0.13958 0.16551 0.15902 0.14259 L 0.25208 0.0419 E">
                                      <p:cBhvr>
                                        <p:cTn id="68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0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0" descr="718217"/>
          <p:cNvPicPr/>
          <p:nvPr/>
        </p:nvPicPr>
        <p:blipFill>
          <a:blip r:embed="rId1">
            <a:lum bright="12000"/>
          </a:blip>
          <a:srcRect l="0" t="0" r="0" b="25625"/>
          <a:stretch/>
        </p:blipFill>
        <p:spPr>
          <a:xfrm>
            <a:off x="642960" y="3714840"/>
            <a:ext cx="7129440" cy="33256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36"/>
          <p:cNvSpPr/>
          <p:nvPr/>
        </p:nvSpPr>
        <p:spPr>
          <a:xfrm rot="289800">
            <a:off x="246240" y="2098440"/>
            <a:ext cx="237636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36"/>
          <p:cNvSpPr/>
          <p:nvPr/>
        </p:nvSpPr>
        <p:spPr>
          <a:xfrm rot="289800">
            <a:off x="6103800" y="5895720"/>
            <a:ext cx="237672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6"/>
          <p:cNvSpPr/>
          <p:nvPr/>
        </p:nvSpPr>
        <p:spPr>
          <a:xfrm rot="289800">
            <a:off x="6318360" y="3955680"/>
            <a:ext cx="237636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Улыбающееся лицо 5"/>
          <p:cNvSpPr/>
          <p:nvPr/>
        </p:nvSpPr>
        <p:spPr>
          <a:xfrm>
            <a:off x="2919240" y="1847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2dcc1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Трапеция 6"/>
          <p:cNvSpPr/>
          <p:nvPr/>
        </p:nvSpPr>
        <p:spPr>
          <a:xfrm>
            <a:off x="2643120" y="2786040"/>
            <a:ext cx="1500120" cy="1357200"/>
          </a:xfrm>
          <a:custGeom>
            <a:avLst/>
            <a:gdLst>
              <a:gd name="textAreaLeft" fmla="*/ 389880 w 1500120"/>
              <a:gd name="textAreaRight" fmla="*/ 1110240 w 1500120"/>
              <a:gd name="textAreaTop" fmla="*/ 352800 h 1357200"/>
              <a:gd name="textAreaBottom" fmla="*/ 1357560 h 1357200"/>
            </a:gdLst>
            <a:ahLst/>
            <a:rect l="textAreaLeft" t="textAreaTop" r="textAreaRight" b="textAreaBottom"/>
            <a:pathLst>
              <a:path w="1500187" h="1357312">
                <a:moveTo>
                  <a:pt x="0" y="1357312"/>
                </a:moveTo>
                <a:lnTo>
                  <a:pt x="584988" y="0"/>
                </a:lnTo>
                <a:lnTo>
                  <a:pt x="915199" y="0"/>
                </a:lnTo>
                <a:lnTo>
                  <a:pt x="1500187" y="13573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7"/>
          <p:cNvSpPr/>
          <p:nvPr/>
        </p:nvSpPr>
        <p:spPr>
          <a:xfrm flipV="1">
            <a:off x="3643200" y="2286000"/>
            <a:ext cx="64296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8"/>
          <p:cNvSpPr/>
          <p:nvPr/>
        </p:nvSpPr>
        <p:spPr>
          <a:xfrm flipH="1" flipV="1">
            <a:off x="3143160" y="3000240"/>
            <a:ext cx="57168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9"/>
          <p:cNvSpPr/>
          <p:nvPr/>
        </p:nvSpPr>
        <p:spPr>
          <a:xfrm>
            <a:off x="3216240" y="4143240"/>
            <a:ext cx="569880" cy="50004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10"/>
          <p:cNvSpPr/>
          <p:nvPr/>
        </p:nvSpPr>
        <p:spPr>
          <a:xfrm>
            <a:off x="3502080" y="4143240"/>
            <a:ext cx="641160" cy="28584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Хорда 11"/>
          <p:cNvSpPr/>
          <p:nvPr/>
        </p:nvSpPr>
        <p:spPr>
          <a:xfrm rot="17660400">
            <a:off x="4134600" y="428832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Хорда 12"/>
          <p:cNvSpPr/>
          <p:nvPr/>
        </p:nvSpPr>
        <p:spPr>
          <a:xfrm rot="17660400">
            <a:off x="3705840" y="450252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18"/>
          <p:cNvSpPr/>
          <p:nvPr/>
        </p:nvSpPr>
        <p:spPr>
          <a:xfrm>
            <a:off x="6572160" y="2071800"/>
            <a:ext cx="785880" cy="2142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Трапеция 19"/>
          <p:cNvSpPr/>
          <p:nvPr/>
        </p:nvSpPr>
        <p:spPr>
          <a:xfrm>
            <a:off x="6858000" y="2143080"/>
            <a:ext cx="1500120" cy="1357200"/>
          </a:xfrm>
          <a:custGeom>
            <a:avLst/>
            <a:gdLst>
              <a:gd name="textAreaLeft" fmla="*/ 389880 w 1500120"/>
              <a:gd name="textAreaRight" fmla="*/ 1110240 w 1500120"/>
              <a:gd name="textAreaTop" fmla="*/ 352800 h 1357200"/>
              <a:gd name="textAreaBottom" fmla="*/ 1357200 h 1357200"/>
            </a:gdLst>
            <a:ahLst/>
            <a:rect l="textAreaLeft" t="textAreaTop" r="textAreaRight" b="textAreaBottom"/>
            <a:pathLst>
              <a:path w="1500188" h="1357313">
                <a:moveTo>
                  <a:pt x="0" y="1357313"/>
                </a:moveTo>
                <a:lnTo>
                  <a:pt x="584988" y="0"/>
                </a:lnTo>
                <a:lnTo>
                  <a:pt x="915200" y="0"/>
                </a:lnTo>
                <a:lnTo>
                  <a:pt x="1500188" y="13573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ая соединительная линия 20"/>
          <p:cNvSpPr/>
          <p:nvPr/>
        </p:nvSpPr>
        <p:spPr>
          <a:xfrm flipH="1">
            <a:off x="7286400" y="2357280"/>
            <a:ext cx="57132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21"/>
          <p:cNvSpPr/>
          <p:nvPr/>
        </p:nvSpPr>
        <p:spPr>
          <a:xfrm flipH="1">
            <a:off x="7286760" y="3500280"/>
            <a:ext cx="144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22"/>
          <p:cNvSpPr/>
          <p:nvPr/>
        </p:nvSpPr>
        <p:spPr>
          <a:xfrm flipH="1">
            <a:off x="7714800" y="3500280"/>
            <a:ext cx="18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Хорда 23"/>
          <p:cNvSpPr/>
          <p:nvPr/>
        </p:nvSpPr>
        <p:spPr>
          <a:xfrm rot="17660400">
            <a:off x="7634880" y="3931200"/>
            <a:ext cx="428400" cy="414360"/>
          </a:xfrm>
          <a:custGeom>
            <a:avLst/>
            <a:gdLst>
              <a:gd name="textAreaLeft" fmla="*/ 62640 w 428400"/>
              <a:gd name="textAreaRight" fmla="*/ 365760 w 42840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Хорда 24"/>
          <p:cNvSpPr/>
          <p:nvPr/>
        </p:nvSpPr>
        <p:spPr>
          <a:xfrm rot="17660400">
            <a:off x="6991920" y="3931200"/>
            <a:ext cx="428400" cy="414360"/>
          </a:xfrm>
          <a:custGeom>
            <a:avLst/>
            <a:gdLst>
              <a:gd name="textAreaLeft" fmla="*/ 62640 w 428400"/>
              <a:gd name="textAreaRight" fmla="*/ 365760 w 42840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Улыбающееся лицо 25"/>
          <p:cNvSpPr/>
          <p:nvPr/>
        </p:nvSpPr>
        <p:spPr>
          <a:xfrm>
            <a:off x="7143840" y="1214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2dcc1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Трапеция 30"/>
          <p:cNvSpPr/>
          <p:nvPr/>
        </p:nvSpPr>
        <p:spPr>
          <a:xfrm>
            <a:off x="1357200" y="3500280"/>
            <a:ext cx="1500480" cy="1357560"/>
          </a:xfrm>
          <a:custGeom>
            <a:avLst/>
            <a:gdLst>
              <a:gd name="textAreaLeft" fmla="*/ 389880 w 1500480"/>
              <a:gd name="textAreaRight" fmla="*/ 1110600 w 1500480"/>
              <a:gd name="textAreaTop" fmla="*/ 352800 h 1357560"/>
              <a:gd name="textAreaBottom" fmla="*/ 1357920 h 1357560"/>
            </a:gdLst>
            <a:ahLst/>
            <a:rect l="textAreaLeft" t="textAreaTop" r="textAreaRight" b="textAreaBottom"/>
            <a:pathLst>
              <a:path w="1500187" h="1357312">
                <a:moveTo>
                  <a:pt x="0" y="1357312"/>
                </a:moveTo>
                <a:lnTo>
                  <a:pt x="584988" y="0"/>
                </a:lnTo>
                <a:lnTo>
                  <a:pt x="915199" y="0"/>
                </a:lnTo>
                <a:lnTo>
                  <a:pt x="1500187" y="1357312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31"/>
          <p:cNvSpPr/>
          <p:nvPr/>
        </p:nvSpPr>
        <p:spPr>
          <a:xfrm flipH="1">
            <a:off x="1928880" y="3643200"/>
            <a:ext cx="4284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32"/>
          <p:cNvSpPr/>
          <p:nvPr/>
        </p:nvSpPr>
        <p:spPr>
          <a:xfrm flipV="1">
            <a:off x="1214280" y="3642840"/>
            <a:ext cx="642960" cy="14292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Улыбающееся лицо 33"/>
          <p:cNvSpPr/>
          <p:nvPr/>
        </p:nvSpPr>
        <p:spPr>
          <a:xfrm>
            <a:off x="1633680" y="2562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34"/>
          <p:cNvSpPr/>
          <p:nvPr/>
        </p:nvSpPr>
        <p:spPr>
          <a:xfrm flipH="1">
            <a:off x="1071360" y="4857840"/>
            <a:ext cx="858600" cy="35712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35"/>
          <p:cNvSpPr/>
          <p:nvPr/>
        </p:nvSpPr>
        <p:spPr>
          <a:xfrm flipH="1">
            <a:off x="1643040" y="4857840"/>
            <a:ext cx="573120" cy="35712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Хорда 36"/>
          <p:cNvSpPr/>
          <p:nvPr/>
        </p:nvSpPr>
        <p:spPr>
          <a:xfrm rot="20030400">
            <a:off x="1355400" y="500184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Хорда 37"/>
          <p:cNvSpPr/>
          <p:nvPr/>
        </p:nvSpPr>
        <p:spPr>
          <a:xfrm rot="19986000">
            <a:off x="783720" y="500328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42"/>
          <p:cNvSpPr/>
          <p:nvPr/>
        </p:nvSpPr>
        <p:spPr>
          <a:xfrm>
            <a:off x="145080" y="285840"/>
            <a:ext cx="91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Катались по радуге. Прыгали по обла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1"/>
          <p:cNvSpPr/>
          <p:nvPr/>
        </p:nvSpPr>
        <p:spPr>
          <a:xfrm>
            <a:off x="428760" y="1071720"/>
            <a:ext cx="1500120" cy="13572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22 -0.00555 L -0.22378 -0.00555 E">
                                      <p:cBhvr>
                                        <p:cTn id="79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 0.08925 C -0.049 0.1079 -0.054 0.13587 -0.054 0.16518 C -0.054 0.19848 -0.049 0.22512 -0.04 0.24377 L 0 0.33302 E">
                                      <p:cBhvr>
                                        <p:cTn id="81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 0.08925 C -0.049 0.1079 -0.054 0.13587 -0.054 0.16518 C -0.054 0.19848 -0.049 0.22512 -0.04 0.24377 L 0 0.33302 E">
                                      <p:cBhvr>
                                        <p:cTn id="83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 0.08925 C -0.049 0.1079 -0.054 0.13587 -0.054 0.16518 C -0.054 0.19848 -0.049 0.22512 -0.04 0.24377 L 0 0.33302 E">
                                      <p:cBhvr>
                                        <p:cTn id="85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 0.08925 C -0.049 0.1079 -0.054 0.13587 -0.054 0.16518 C -0.054 0.19848 -0.049 0.22512 -0.04 0.24377 L 0 0.33302 E">
                                      <p:cBhvr>
                                        <p:cTn id="87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 0.08925 C -0.049 0.1079 -0.054 0.13587 -0.054 0.16518 C -0.054 0.19848 -0.049 0.22512 -0.04 0.24377 L 0 0.33302 E">
                                      <p:cBhvr>
                                        <p:cTn id="89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 0.08925 C -0.049 0.1079 -0.054 0.13587 -0.054 0.16518 C -0.054 0.19848 -0.049 0.22512 -0.04 0.24377 L 0 0.33302 E">
                                      <p:cBhvr>
                                        <p:cTn id="91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 0.08925 C -0.049 0.1079 -0.054 0.13587 -0.054 0.16518 C -0.054 0.19848 -0.049 0.22512 -0.04 0.24377 L 0 0.33302 E">
                                      <p:cBhvr>
                                        <p:cTn id="93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 0.08925 C -0.049 0.1079 -0.054 0.13587 -0.054 0.16518 C -0.054 0.19848 -0.049 0.22512 -0.04 0.24377 L 0 0.33302 E">
                                      <p:cBhvr>
                                        <p:cTn id="95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7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00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02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0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06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08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10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12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14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191 0.25 0.16651 L 0.25 0.33302 E">
                                      <p:cBhvr>
                                        <p:cTn id="116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191 0.25 0.16651 L 0.25 0.33302 E">
                                      <p:cBhvr>
                                        <p:cTn id="118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191 0.25 0.16651 L 0.25 0.33302 E">
                                      <p:cBhvr>
                                        <p:cTn id="120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191 0.25 0.16651 L 0.25 0.33302 E">
                                      <p:cBhvr>
                                        <p:cTn id="122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191 0.25 0.16651 L 0.25 0.33302 E">
                                      <p:cBhvr>
                                        <p:cTn id="124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191 0.25 0.16651 L 0.25 0.33302 E">
                                      <p:cBhvr>
                                        <p:cTn id="126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191 0.25 0.16651 L 0.25 0.33302 E">
                                      <p:cBhvr>
                                        <p:cTn id="128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9191 0.25 0.16651 L 0.25 0.33302 E">
                                      <p:cBhvr>
                                        <p:cTn id="130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reeform 48"/>
          <p:cNvSpPr/>
          <p:nvPr/>
        </p:nvSpPr>
        <p:spPr>
          <a:xfrm rot="21473400">
            <a:off x="-522000" y="5038200"/>
            <a:ext cx="9864720" cy="2884680"/>
          </a:xfrm>
          <a:custGeom>
            <a:avLst/>
            <a:gdLst>
              <a:gd name="textAreaLeft" fmla="*/ 0 w 9864720"/>
              <a:gd name="textAreaRight" fmla="*/ 9865080 w 9864720"/>
              <a:gd name="textAreaTop" fmla="*/ 0 h 2884680"/>
              <a:gd name="textAreaBottom" fmla="*/ 2884680 h 2884680"/>
            </a:gdLst>
            <a:ahLst/>
            <a:rect l="textAreaLeft" t="textAreaTop" r="textAreaRight" b="textAreaBottom"/>
            <a:pathLst>
              <a:path w="6102" h="1632">
                <a:moveTo>
                  <a:pt x="268" y="735"/>
                </a:moveTo>
                <a:cubicBezTo>
                  <a:pt x="318" y="703"/>
                  <a:pt x="294" y="669"/>
                  <a:pt x="318" y="620"/>
                </a:cubicBezTo>
                <a:cubicBezTo>
                  <a:pt x="335" y="585"/>
                  <a:pt x="365" y="567"/>
                  <a:pt x="400" y="554"/>
                </a:cubicBezTo>
                <a:cubicBezTo>
                  <a:pt x="421" y="534"/>
                  <a:pt x="430" y="522"/>
                  <a:pt x="458" y="513"/>
                </a:cubicBezTo>
                <a:cubicBezTo>
                  <a:pt x="493" y="460"/>
                  <a:pt x="547" y="453"/>
                  <a:pt x="606" y="439"/>
                </a:cubicBezTo>
                <a:cubicBezTo>
                  <a:pt x="614" y="431"/>
                  <a:pt x="624" y="424"/>
                  <a:pt x="631" y="415"/>
                </a:cubicBezTo>
                <a:cubicBezTo>
                  <a:pt x="637" y="407"/>
                  <a:pt x="640" y="397"/>
                  <a:pt x="647" y="390"/>
                </a:cubicBezTo>
                <a:cubicBezTo>
                  <a:pt x="664" y="373"/>
                  <a:pt x="736" y="340"/>
                  <a:pt x="762" y="332"/>
                </a:cubicBezTo>
                <a:cubicBezTo>
                  <a:pt x="798" y="298"/>
                  <a:pt x="756" y="333"/>
                  <a:pt x="812" y="308"/>
                </a:cubicBezTo>
                <a:cubicBezTo>
                  <a:pt x="821" y="304"/>
                  <a:pt x="827" y="295"/>
                  <a:pt x="836" y="291"/>
                </a:cubicBezTo>
                <a:cubicBezTo>
                  <a:pt x="854" y="283"/>
                  <a:pt x="875" y="281"/>
                  <a:pt x="894" y="275"/>
                </a:cubicBezTo>
                <a:cubicBezTo>
                  <a:pt x="996" y="166"/>
                  <a:pt x="1141" y="167"/>
                  <a:pt x="1272" y="118"/>
                </a:cubicBezTo>
                <a:cubicBezTo>
                  <a:pt x="1288" y="95"/>
                  <a:pt x="1308" y="78"/>
                  <a:pt x="1338" y="77"/>
                </a:cubicBezTo>
                <a:cubicBezTo>
                  <a:pt x="1487" y="70"/>
                  <a:pt x="2073" y="62"/>
                  <a:pt x="2145" y="61"/>
                </a:cubicBezTo>
                <a:cubicBezTo>
                  <a:pt x="2306" y="1"/>
                  <a:pt x="2333" y="47"/>
                  <a:pt x="2614" y="52"/>
                </a:cubicBezTo>
                <a:cubicBezTo>
                  <a:pt x="2714" y="79"/>
                  <a:pt x="2599" y="58"/>
                  <a:pt x="2663" y="44"/>
                </a:cubicBezTo>
                <a:cubicBezTo>
                  <a:pt x="2735" y="28"/>
                  <a:pt x="2819" y="25"/>
                  <a:pt x="2893" y="11"/>
                </a:cubicBezTo>
                <a:cubicBezTo>
                  <a:pt x="3737" y="26"/>
                  <a:pt x="3203" y="0"/>
                  <a:pt x="3478" y="44"/>
                </a:cubicBezTo>
                <a:cubicBezTo>
                  <a:pt x="3531" y="82"/>
                  <a:pt x="3529" y="83"/>
                  <a:pt x="3601" y="94"/>
                </a:cubicBezTo>
                <a:cubicBezTo>
                  <a:pt x="3697" y="186"/>
                  <a:pt x="3759" y="164"/>
                  <a:pt x="3905" y="168"/>
                </a:cubicBezTo>
                <a:cubicBezTo>
                  <a:pt x="4067" y="172"/>
                  <a:pt x="4229" y="173"/>
                  <a:pt x="4391" y="176"/>
                </a:cubicBezTo>
                <a:cubicBezTo>
                  <a:pt x="4424" y="187"/>
                  <a:pt x="4435" y="211"/>
                  <a:pt x="4473" y="217"/>
                </a:cubicBezTo>
                <a:cubicBezTo>
                  <a:pt x="4508" y="223"/>
                  <a:pt x="4544" y="222"/>
                  <a:pt x="4580" y="225"/>
                </a:cubicBezTo>
                <a:cubicBezTo>
                  <a:pt x="4597" y="236"/>
                  <a:pt x="4619" y="241"/>
                  <a:pt x="4630" y="258"/>
                </a:cubicBezTo>
                <a:cubicBezTo>
                  <a:pt x="4647" y="284"/>
                  <a:pt x="4673" y="329"/>
                  <a:pt x="4704" y="340"/>
                </a:cubicBezTo>
                <a:cubicBezTo>
                  <a:pt x="4770" y="364"/>
                  <a:pt x="4844" y="372"/>
                  <a:pt x="4909" y="398"/>
                </a:cubicBezTo>
                <a:cubicBezTo>
                  <a:pt x="4923" y="404"/>
                  <a:pt x="4936" y="412"/>
                  <a:pt x="4951" y="415"/>
                </a:cubicBezTo>
                <a:cubicBezTo>
                  <a:pt x="4993" y="423"/>
                  <a:pt x="5200" y="431"/>
                  <a:pt x="5206" y="431"/>
                </a:cubicBezTo>
                <a:cubicBezTo>
                  <a:pt x="5248" y="445"/>
                  <a:pt x="5224" y="433"/>
                  <a:pt x="5271" y="480"/>
                </a:cubicBezTo>
                <a:cubicBezTo>
                  <a:pt x="5277" y="486"/>
                  <a:pt x="5288" y="497"/>
                  <a:pt x="5288" y="497"/>
                </a:cubicBezTo>
                <a:cubicBezTo>
                  <a:pt x="5303" y="558"/>
                  <a:pt x="5282" y="507"/>
                  <a:pt x="5321" y="546"/>
                </a:cubicBezTo>
                <a:cubicBezTo>
                  <a:pt x="5367" y="592"/>
                  <a:pt x="5319" y="573"/>
                  <a:pt x="5378" y="587"/>
                </a:cubicBezTo>
                <a:cubicBezTo>
                  <a:pt x="5404" y="613"/>
                  <a:pt x="5442" y="616"/>
                  <a:pt x="5477" y="628"/>
                </a:cubicBezTo>
                <a:cubicBezTo>
                  <a:pt x="5494" y="634"/>
                  <a:pt x="5527" y="645"/>
                  <a:pt x="5527" y="645"/>
                </a:cubicBezTo>
                <a:cubicBezTo>
                  <a:pt x="5563" y="683"/>
                  <a:pt x="5613" y="694"/>
                  <a:pt x="5658" y="719"/>
                </a:cubicBezTo>
                <a:cubicBezTo>
                  <a:pt x="5696" y="740"/>
                  <a:pt x="5722" y="770"/>
                  <a:pt x="5757" y="793"/>
                </a:cubicBezTo>
                <a:cubicBezTo>
                  <a:pt x="5814" y="829"/>
                  <a:pt x="5881" y="829"/>
                  <a:pt x="5946" y="834"/>
                </a:cubicBezTo>
                <a:cubicBezTo>
                  <a:pt x="6102" y="1632"/>
                  <a:pt x="4384" y="909"/>
                  <a:pt x="3214" y="916"/>
                </a:cubicBezTo>
                <a:cubicBezTo>
                  <a:pt x="2749" y="911"/>
                  <a:pt x="2303" y="899"/>
                  <a:pt x="1840" y="892"/>
                </a:cubicBezTo>
                <a:cubicBezTo>
                  <a:pt x="1531" y="858"/>
                  <a:pt x="1736" y="874"/>
                  <a:pt x="1223" y="884"/>
                </a:cubicBezTo>
                <a:cubicBezTo>
                  <a:pt x="0" y="872"/>
                  <a:pt x="277" y="1193"/>
                  <a:pt x="277" y="744"/>
                </a:cubicBezTo>
                <a:cubicBezTo>
                  <a:pt x="277" y="735"/>
                  <a:pt x="271" y="727"/>
                  <a:pt x="268" y="719"/>
                </a:cubicBezTo>
                <a:cubicBezTo>
                  <a:pt x="304" y="707"/>
                  <a:pt x="299" y="705"/>
                  <a:pt x="268" y="73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Улыбающееся лицо 2"/>
          <p:cNvSpPr/>
          <p:nvPr/>
        </p:nvSpPr>
        <p:spPr>
          <a:xfrm>
            <a:off x="1776240" y="2419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Трапеция 3"/>
          <p:cNvSpPr/>
          <p:nvPr/>
        </p:nvSpPr>
        <p:spPr>
          <a:xfrm>
            <a:off x="1500120" y="3357720"/>
            <a:ext cx="1500120" cy="1357200"/>
          </a:xfrm>
          <a:custGeom>
            <a:avLst/>
            <a:gdLst>
              <a:gd name="textAreaLeft" fmla="*/ 389880 w 1500120"/>
              <a:gd name="textAreaRight" fmla="*/ 1110240 w 1500120"/>
              <a:gd name="textAreaTop" fmla="*/ 352800 h 1357200"/>
              <a:gd name="textAreaBottom" fmla="*/ 1357560 h 1357200"/>
            </a:gdLst>
            <a:ahLst/>
            <a:rect l="textAreaLeft" t="textAreaTop" r="textAreaRight" b="textAreaBottom"/>
            <a:pathLst>
              <a:path w="1500187" h="1357312">
                <a:moveTo>
                  <a:pt x="0" y="1357312"/>
                </a:moveTo>
                <a:lnTo>
                  <a:pt x="584988" y="0"/>
                </a:lnTo>
                <a:lnTo>
                  <a:pt x="915199" y="0"/>
                </a:lnTo>
                <a:lnTo>
                  <a:pt x="1500187" y="135731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ая соединительная линия 4"/>
          <p:cNvSpPr/>
          <p:nvPr/>
        </p:nvSpPr>
        <p:spPr>
          <a:xfrm>
            <a:off x="2499480" y="3500280"/>
            <a:ext cx="714600" cy="85752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ая соединительная линия 5"/>
          <p:cNvSpPr/>
          <p:nvPr/>
        </p:nvSpPr>
        <p:spPr>
          <a:xfrm>
            <a:off x="1428840" y="3357720"/>
            <a:ext cx="642960" cy="1425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ая соединительная линия 6"/>
          <p:cNvSpPr/>
          <p:nvPr/>
        </p:nvSpPr>
        <p:spPr>
          <a:xfrm flipH="1">
            <a:off x="2071800" y="4714920"/>
            <a:ext cx="144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ая соединительная линия 7"/>
          <p:cNvSpPr/>
          <p:nvPr/>
        </p:nvSpPr>
        <p:spPr>
          <a:xfrm flipH="1">
            <a:off x="2356920" y="4714920"/>
            <a:ext cx="18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Хорда 8"/>
          <p:cNvSpPr/>
          <p:nvPr/>
        </p:nvSpPr>
        <p:spPr>
          <a:xfrm rot="17660400">
            <a:off x="2277360" y="5217120"/>
            <a:ext cx="428400" cy="414360"/>
          </a:xfrm>
          <a:custGeom>
            <a:avLst/>
            <a:gdLst>
              <a:gd name="textAreaLeft" fmla="*/ 62640 w 428400"/>
              <a:gd name="textAreaRight" fmla="*/ 365760 w 42840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Хорда 9"/>
          <p:cNvSpPr/>
          <p:nvPr/>
        </p:nvSpPr>
        <p:spPr>
          <a:xfrm rot="17660400">
            <a:off x="1777320" y="5217120"/>
            <a:ext cx="428400" cy="414000"/>
          </a:xfrm>
          <a:custGeom>
            <a:avLst/>
            <a:gdLst>
              <a:gd name="textAreaLeft" fmla="*/ 62640 w 428400"/>
              <a:gd name="textAreaRight" fmla="*/ 365760 w 428400"/>
              <a:gd name="textAreaTop" fmla="*/ 60480 h 414000"/>
              <a:gd name="textAreaBottom" fmla="*/ 353520 h 41400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Улыбающееся лицо 10"/>
          <p:cNvSpPr/>
          <p:nvPr/>
        </p:nvSpPr>
        <p:spPr>
          <a:xfrm>
            <a:off x="3848040" y="2276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Трапеция 11"/>
          <p:cNvSpPr/>
          <p:nvPr/>
        </p:nvSpPr>
        <p:spPr>
          <a:xfrm>
            <a:off x="3571920" y="3214800"/>
            <a:ext cx="1500120" cy="1357200"/>
          </a:xfrm>
          <a:custGeom>
            <a:avLst/>
            <a:gdLst>
              <a:gd name="textAreaLeft" fmla="*/ 389880 w 1500120"/>
              <a:gd name="textAreaRight" fmla="*/ 1110240 w 1500120"/>
              <a:gd name="textAreaTop" fmla="*/ 352800 h 1357200"/>
              <a:gd name="textAreaBottom" fmla="*/ 1357560 h 1357200"/>
            </a:gdLst>
            <a:ahLst/>
            <a:rect l="textAreaLeft" t="textAreaTop" r="textAreaRight" b="textAreaBottom"/>
            <a:pathLst>
              <a:path w="1500188" h="1357312">
                <a:moveTo>
                  <a:pt x="0" y="1357312"/>
                </a:moveTo>
                <a:lnTo>
                  <a:pt x="584988" y="0"/>
                </a:lnTo>
                <a:lnTo>
                  <a:pt x="915200" y="0"/>
                </a:lnTo>
                <a:lnTo>
                  <a:pt x="1500188" y="1357312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"/>
          <p:cNvSpPr/>
          <p:nvPr/>
        </p:nvSpPr>
        <p:spPr>
          <a:xfrm>
            <a:off x="4572000" y="3357720"/>
            <a:ext cx="642960" cy="28548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3"/>
          <p:cNvSpPr/>
          <p:nvPr/>
        </p:nvSpPr>
        <p:spPr>
          <a:xfrm flipV="1">
            <a:off x="3500280" y="3357360"/>
            <a:ext cx="642960" cy="2142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4"/>
          <p:cNvSpPr/>
          <p:nvPr/>
        </p:nvSpPr>
        <p:spPr>
          <a:xfrm flipH="1">
            <a:off x="4142880" y="4572000"/>
            <a:ext cx="18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5"/>
          <p:cNvSpPr/>
          <p:nvPr/>
        </p:nvSpPr>
        <p:spPr>
          <a:xfrm flipH="1">
            <a:off x="4428720" y="4572000"/>
            <a:ext cx="18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Хорда 16"/>
          <p:cNvSpPr/>
          <p:nvPr/>
        </p:nvSpPr>
        <p:spPr>
          <a:xfrm rot="17660400">
            <a:off x="4348800" y="5074200"/>
            <a:ext cx="428400" cy="414360"/>
          </a:xfrm>
          <a:custGeom>
            <a:avLst/>
            <a:gdLst>
              <a:gd name="textAreaLeft" fmla="*/ 62640 w 428400"/>
              <a:gd name="textAreaRight" fmla="*/ 365760 w 42840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Хорда 17"/>
          <p:cNvSpPr/>
          <p:nvPr/>
        </p:nvSpPr>
        <p:spPr>
          <a:xfrm rot="17660400">
            <a:off x="3848760" y="5074200"/>
            <a:ext cx="428400" cy="414360"/>
          </a:xfrm>
          <a:custGeom>
            <a:avLst/>
            <a:gdLst>
              <a:gd name="textAreaLeft" fmla="*/ 62640 w 428400"/>
              <a:gd name="textAreaRight" fmla="*/ 365760 w 42840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00b0f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Улыбающееся лицо 18"/>
          <p:cNvSpPr/>
          <p:nvPr/>
        </p:nvSpPr>
        <p:spPr>
          <a:xfrm>
            <a:off x="5991120" y="2347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Трапеция 19"/>
          <p:cNvSpPr/>
          <p:nvPr/>
        </p:nvSpPr>
        <p:spPr>
          <a:xfrm>
            <a:off x="5715000" y="3286080"/>
            <a:ext cx="1500120" cy="1357200"/>
          </a:xfrm>
          <a:custGeom>
            <a:avLst/>
            <a:gdLst>
              <a:gd name="textAreaLeft" fmla="*/ 389880 w 1500120"/>
              <a:gd name="textAreaRight" fmla="*/ 1110240 w 1500120"/>
              <a:gd name="textAreaTop" fmla="*/ 352800 h 1357200"/>
              <a:gd name="textAreaBottom" fmla="*/ 1357200 h 1357200"/>
            </a:gdLst>
            <a:ahLst/>
            <a:rect l="textAreaLeft" t="textAreaTop" r="textAreaRight" b="textAreaBottom"/>
            <a:pathLst>
              <a:path w="1500188" h="1357313">
                <a:moveTo>
                  <a:pt x="0" y="1357313"/>
                </a:moveTo>
                <a:lnTo>
                  <a:pt x="584988" y="0"/>
                </a:lnTo>
                <a:lnTo>
                  <a:pt x="915200" y="0"/>
                </a:lnTo>
                <a:lnTo>
                  <a:pt x="1500188" y="13573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20"/>
          <p:cNvSpPr/>
          <p:nvPr/>
        </p:nvSpPr>
        <p:spPr>
          <a:xfrm>
            <a:off x="6715080" y="3429000"/>
            <a:ext cx="642960" cy="28584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21"/>
          <p:cNvSpPr/>
          <p:nvPr/>
        </p:nvSpPr>
        <p:spPr>
          <a:xfrm>
            <a:off x="5572080" y="3000240"/>
            <a:ext cx="714600" cy="4287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22"/>
          <p:cNvSpPr/>
          <p:nvPr/>
        </p:nvSpPr>
        <p:spPr>
          <a:xfrm flipH="1">
            <a:off x="6286680" y="4643280"/>
            <a:ext cx="144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23"/>
          <p:cNvSpPr/>
          <p:nvPr/>
        </p:nvSpPr>
        <p:spPr>
          <a:xfrm flipH="1">
            <a:off x="6571800" y="4643280"/>
            <a:ext cx="180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Хорда 24"/>
          <p:cNvSpPr/>
          <p:nvPr/>
        </p:nvSpPr>
        <p:spPr>
          <a:xfrm rot="17660400">
            <a:off x="6491880" y="514548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8">
                <a:moveTo>
                  <a:pt x="363264" y="356121"/>
                </a:moveTo>
                <a:lnTo>
                  <a:pt x="363264" y="356121"/>
                </a:lnTo>
                <a:arcTo wR="214313" hR="2071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Хорда 25"/>
          <p:cNvSpPr/>
          <p:nvPr/>
        </p:nvSpPr>
        <p:spPr>
          <a:xfrm rot="17660400">
            <a:off x="5991840" y="5145480"/>
            <a:ext cx="428760" cy="414360"/>
          </a:xfrm>
          <a:custGeom>
            <a:avLst/>
            <a:gdLst>
              <a:gd name="textAreaLeft" fmla="*/ 62640 w 428760"/>
              <a:gd name="textAreaRight" fmla="*/ 366120 w 428760"/>
              <a:gd name="textAreaTop" fmla="*/ 60480 h 414360"/>
              <a:gd name="textAreaBottom" fmla="*/ 353880 h 414360"/>
            </a:gdLst>
            <a:ahLst/>
            <a:rect l="textAreaLeft" t="textAreaTop" r="textAreaRight" b="textAreaBottom"/>
            <a:pathLst>
              <a:path w="428625" h="414337">
                <a:moveTo>
                  <a:pt x="363264" y="356120"/>
                </a:moveTo>
                <a:lnTo>
                  <a:pt x="363264" y="356120"/>
                </a:lnTo>
                <a:arcTo wR="214313" hR="2071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26"/>
          <p:cNvSpPr/>
          <p:nvPr/>
        </p:nvSpPr>
        <p:spPr>
          <a:xfrm flipV="1">
            <a:off x="1428840" y="3143160"/>
            <a:ext cx="642960" cy="2145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8"/>
          <p:cNvSpPr/>
          <p:nvPr/>
        </p:nvSpPr>
        <p:spPr>
          <a:xfrm flipV="1">
            <a:off x="5572080" y="2571840"/>
            <a:ext cx="571680" cy="4284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2"/>
          <p:cNvSpPr/>
          <p:nvPr/>
        </p:nvSpPr>
        <p:spPr>
          <a:xfrm flipV="1">
            <a:off x="3499560" y="2928960"/>
            <a:ext cx="142920" cy="64296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5"/>
          <p:cNvSpPr/>
          <p:nvPr/>
        </p:nvSpPr>
        <p:spPr>
          <a:xfrm flipV="1">
            <a:off x="5143680" y="3428640"/>
            <a:ext cx="642600" cy="21420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6"/>
          <p:cNvSpPr/>
          <p:nvPr/>
        </p:nvSpPr>
        <p:spPr>
          <a:xfrm flipV="1">
            <a:off x="7357320" y="3214440"/>
            <a:ext cx="142920" cy="500040"/>
          </a:xfrm>
          <a:prstGeom prst="line">
            <a:avLst/>
          </a:prstGeom>
          <a:ln w="7632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0"/>
          <p:cNvSpPr/>
          <p:nvPr/>
        </p:nvSpPr>
        <p:spPr>
          <a:xfrm>
            <a:off x="214200" y="142920"/>
            <a:ext cx="892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И хорошо им было, пока они не задумались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мышка живет в норке, птичка – в гнезде, мишка – в берлоге, человек – в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- А у нас нет домика, - сказала синяя краска и заплак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9" descr="b39"/>
          <p:cNvPicPr/>
          <p:nvPr/>
        </p:nvPicPr>
        <p:blipFill>
          <a:blip r:embed="rId2"/>
          <a:stretch/>
        </p:blipFill>
        <p:spPr>
          <a:xfrm>
            <a:off x="2643120" y="5357880"/>
            <a:ext cx="1292400" cy="13064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0" descr="b39"/>
          <p:cNvPicPr/>
          <p:nvPr/>
        </p:nvPicPr>
        <p:blipFill>
          <a:blip r:embed="rId3"/>
          <a:stretch/>
        </p:blipFill>
        <p:spPr>
          <a:xfrm>
            <a:off x="6948360" y="5661000"/>
            <a:ext cx="865440" cy="87480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21"/>
          <p:cNvSpPr/>
          <p:nvPr/>
        </p:nvSpPr>
        <p:spPr>
          <a:xfrm>
            <a:off x="285840" y="2571840"/>
            <a:ext cx="1270080" cy="1312920"/>
          </a:xfrm>
          <a:prstGeom prst="sun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8" descr="klever"/>
          <p:cNvPicPr/>
          <p:nvPr/>
        </p:nvPicPr>
        <p:blipFill>
          <a:blip r:embed="rId5"/>
          <a:stretch/>
        </p:blipFill>
        <p:spPr>
          <a:xfrm flipH="1" rot="57600">
            <a:off x="229320" y="4654080"/>
            <a:ext cx="137160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64 -0.06961 0.06545 -0.13899 0.13142 -0.17091 C 0.1974 -0.20282 0.3033 -0.18779 0.39549 -0.1908 C 0.48767 -0.1938 0.61493 -0.20421 0.68507 -0.18895 C 0.75521 -0.17368 0.78576 -0.13668 0.81632 -0.09945 E">
                                      <p:cBhvr>
                                        <p:cTn id="154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E:\3.jpg"/>
          <p:cNvPicPr/>
          <p:nvPr/>
        </p:nvPicPr>
        <p:blipFill>
          <a:blip r:embed="rId1"/>
          <a:srcRect l="24012" t="23958" r="9571" b="13543"/>
          <a:stretch/>
        </p:blipFill>
        <p:spPr>
          <a:xfrm>
            <a:off x="4986360" y="214200"/>
            <a:ext cx="3943440" cy="5143680"/>
          </a:xfrm>
          <a:prstGeom prst="rect">
            <a:avLst/>
          </a:prstGeom>
          <a:ln w="0">
            <a:noFill/>
          </a:ln>
        </p:spPr>
      </p:pic>
      <p:sp>
        <p:nvSpPr>
          <p:cNvPr id="505" name="TextBox 2"/>
          <p:cNvSpPr/>
          <p:nvPr/>
        </p:nvSpPr>
        <p:spPr>
          <a:xfrm>
            <a:off x="357120" y="642960"/>
            <a:ext cx="492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 одном замке живет волшебница, которая «замораживает» краски, опуская в каждую </a:t>
            </a:r>
            <a:r>
              <a:rPr b="1" lang="ru-RU" sz="3200" spc="-1" strike="noStrike">
                <a:solidFill>
                  <a:srgbClr val="00b0f0"/>
                </a:solidFill>
                <a:latin typeface="Cambria"/>
              </a:rPr>
              <a:t>голубую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или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синюю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льди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Users\пользователь\Desktop\анимации\priroda015[1].gif"/>
          <p:cNvPicPr/>
          <p:nvPr/>
        </p:nvPicPr>
        <p:blipFill>
          <a:blip r:embed="rId2"/>
          <a:stretch/>
        </p:blipFill>
        <p:spPr>
          <a:xfrm>
            <a:off x="857160" y="3929040"/>
            <a:ext cx="346860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E:\4.jpg"/>
          <p:cNvPicPr/>
          <p:nvPr/>
        </p:nvPicPr>
        <p:blipFill>
          <a:blip r:embed="rId1">
            <a:lum contrast="30000"/>
          </a:blip>
          <a:srcRect l="22571" t="10416" r="48561" b="59376"/>
          <a:stretch/>
        </p:blipFill>
        <p:spPr>
          <a:xfrm>
            <a:off x="571680" y="357120"/>
            <a:ext cx="4214520" cy="6112080"/>
          </a:xfrm>
          <a:prstGeom prst="rect">
            <a:avLst/>
          </a:prstGeom>
          <a:ln w="0">
            <a:noFill/>
          </a:ln>
        </p:spPr>
      </p:pic>
      <p:sp>
        <p:nvSpPr>
          <p:cNvPr id="508" name="Трапеция 4"/>
          <p:cNvSpPr/>
          <p:nvPr/>
        </p:nvSpPr>
        <p:spPr>
          <a:xfrm>
            <a:off x="6572160" y="3143160"/>
            <a:ext cx="857520" cy="714600"/>
          </a:xfrm>
          <a:custGeom>
            <a:avLst/>
            <a:gdLst>
              <a:gd name="textAreaLeft" fmla="*/ 200880 w 857520"/>
              <a:gd name="textAreaRight" fmla="*/ 656640 w 85752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00206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Улыбающееся лицо 5"/>
          <p:cNvSpPr/>
          <p:nvPr/>
        </p:nvSpPr>
        <p:spPr>
          <a:xfrm>
            <a:off x="6715080" y="264312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ая соединительная линия 7"/>
          <p:cNvSpPr/>
          <p:nvPr/>
        </p:nvSpPr>
        <p:spPr>
          <a:xfrm flipH="1">
            <a:off x="6428880" y="3286080"/>
            <a:ext cx="35748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8"/>
          <p:cNvSpPr/>
          <p:nvPr/>
        </p:nvSpPr>
        <p:spPr>
          <a:xfrm flipH="1">
            <a:off x="7143840" y="3142440"/>
            <a:ext cx="428400" cy="716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 flipH="1">
            <a:off x="6858000" y="385920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12"/>
          <p:cNvSpPr/>
          <p:nvPr/>
        </p:nvSpPr>
        <p:spPr>
          <a:xfrm flipH="1">
            <a:off x="7071840" y="3857760"/>
            <a:ext cx="180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Хорда 18"/>
          <p:cNvSpPr/>
          <p:nvPr/>
        </p:nvSpPr>
        <p:spPr>
          <a:xfrm rot="17726400">
            <a:off x="7024320" y="407196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7">
                <a:moveTo>
                  <a:pt x="259285" y="227535"/>
                </a:moveTo>
                <a:lnTo>
                  <a:pt x="259285" y="227535"/>
                </a:lnTo>
                <a:arcTo wR="159544" hR="127794" stAng="2700000" swAng="13500000"/>
                <a:close/>
              </a:path>
            </a:pathLst>
          </a:custGeom>
          <a:solidFill>
            <a:srgbClr val="00206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Хорда 19"/>
          <p:cNvSpPr/>
          <p:nvPr/>
        </p:nvSpPr>
        <p:spPr>
          <a:xfrm rot="17726400">
            <a:off x="6676920" y="405072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8" h="287338">
                <a:moveTo>
                  <a:pt x="278549" y="253149"/>
                </a:moveTo>
                <a:lnTo>
                  <a:pt x="278549" y="253149"/>
                </a:lnTo>
                <a:arcTo wR="169069" hR="143669" stAng="2700000" swAng="13500000"/>
                <a:close/>
              </a:path>
            </a:pathLst>
          </a:custGeom>
          <a:solidFill>
            <a:srgbClr val="002060"/>
          </a:solidFill>
          <a:ln w="38160">
            <a:solidFill>
              <a:srgbClr val="72a3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Трапеция 23"/>
          <p:cNvSpPr/>
          <p:nvPr/>
        </p:nvSpPr>
        <p:spPr>
          <a:xfrm>
            <a:off x="4929120" y="857160"/>
            <a:ext cx="857160" cy="71460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66a7b9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Улыбающееся лицо 24"/>
          <p:cNvSpPr/>
          <p:nvPr/>
        </p:nvSpPr>
        <p:spPr>
          <a:xfrm>
            <a:off x="5072040" y="35712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25"/>
          <p:cNvSpPr/>
          <p:nvPr/>
        </p:nvSpPr>
        <p:spPr>
          <a:xfrm flipH="1">
            <a:off x="4857840" y="928080"/>
            <a:ext cx="35712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ая соединительная линия 26"/>
          <p:cNvSpPr/>
          <p:nvPr/>
        </p:nvSpPr>
        <p:spPr>
          <a:xfrm flipH="1">
            <a:off x="5500800" y="856440"/>
            <a:ext cx="428400" cy="716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27"/>
          <p:cNvSpPr/>
          <p:nvPr/>
        </p:nvSpPr>
        <p:spPr>
          <a:xfrm flipH="1">
            <a:off x="5214960" y="1571760"/>
            <a:ext cx="144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28"/>
          <p:cNvSpPr/>
          <p:nvPr/>
        </p:nvSpPr>
        <p:spPr>
          <a:xfrm flipH="1">
            <a:off x="5428800" y="1571760"/>
            <a:ext cx="180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Хорда 29"/>
          <p:cNvSpPr/>
          <p:nvPr/>
        </p:nvSpPr>
        <p:spPr>
          <a:xfrm rot="17726400">
            <a:off x="5381280" y="178596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8">
                <a:moveTo>
                  <a:pt x="259285" y="227536"/>
                </a:moveTo>
                <a:lnTo>
                  <a:pt x="259285" y="227536"/>
                </a:lnTo>
                <a:arcTo wR="159544" hR="127794" stAng="2700000" swAng="13500000"/>
                <a:close/>
              </a:path>
            </a:pathLst>
          </a:custGeom>
          <a:solidFill>
            <a:srgbClr val="66a7b9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Хорда 30"/>
          <p:cNvSpPr/>
          <p:nvPr/>
        </p:nvSpPr>
        <p:spPr>
          <a:xfrm rot="17726400">
            <a:off x="5033880" y="176472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8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66a7b9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Трапеция 31"/>
          <p:cNvSpPr/>
          <p:nvPr/>
        </p:nvSpPr>
        <p:spPr>
          <a:xfrm>
            <a:off x="5857920" y="128592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0070c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Улыбающееся лицо 32"/>
          <p:cNvSpPr/>
          <p:nvPr/>
        </p:nvSpPr>
        <p:spPr>
          <a:xfrm>
            <a:off x="6000840" y="78588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33"/>
          <p:cNvSpPr/>
          <p:nvPr/>
        </p:nvSpPr>
        <p:spPr>
          <a:xfrm flipH="1">
            <a:off x="5785920" y="1357200"/>
            <a:ext cx="35748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34"/>
          <p:cNvSpPr/>
          <p:nvPr/>
        </p:nvSpPr>
        <p:spPr>
          <a:xfrm flipH="1">
            <a:off x="6428880" y="1285920"/>
            <a:ext cx="428760" cy="712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35"/>
          <p:cNvSpPr/>
          <p:nvPr/>
        </p:nvSpPr>
        <p:spPr>
          <a:xfrm flipH="1">
            <a:off x="6143760" y="200016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36"/>
          <p:cNvSpPr/>
          <p:nvPr/>
        </p:nvSpPr>
        <p:spPr>
          <a:xfrm flipH="1">
            <a:off x="6357960" y="200016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Хорда 37"/>
          <p:cNvSpPr/>
          <p:nvPr/>
        </p:nvSpPr>
        <p:spPr>
          <a:xfrm rot="17726400">
            <a:off x="6310080" y="221400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7">
                <a:moveTo>
                  <a:pt x="259285" y="227535"/>
                </a:moveTo>
                <a:lnTo>
                  <a:pt x="259285" y="227535"/>
                </a:lnTo>
                <a:arcTo wR="159544" hR="127794" stAng="2700000" swAng="13500000"/>
                <a:close/>
              </a:path>
            </a:pathLst>
          </a:custGeom>
          <a:solidFill>
            <a:srgbClr val="0070c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Хорда 38"/>
          <p:cNvSpPr/>
          <p:nvPr/>
        </p:nvSpPr>
        <p:spPr>
          <a:xfrm rot="17726400">
            <a:off x="5962320" y="2193480"/>
            <a:ext cx="338040" cy="28764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338138" h="287338">
                <a:moveTo>
                  <a:pt x="278549" y="253149"/>
                </a:moveTo>
                <a:lnTo>
                  <a:pt x="278549" y="253149"/>
                </a:lnTo>
                <a:arcTo wR="169069" hR="143669" stAng="2700000" swAng="13500000"/>
                <a:close/>
              </a:path>
            </a:pathLst>
          </a:custGeom>
          <a:solidFill>
            <a:srgbClr val="0070c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Трапеция 39"/>
          <p:cNvSpPr/>
          <p:nvPr/>
        </p:nvSpPr>
        <p:spPr>
          <a:xfrm>
            <a:off x="7000920" y="92880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7030a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Улыбающееся лицо 40"/>
          <p:cNvSpPr/>
          <p:nvPr/>
        </p:nvSpPr>
        <p:spPr>
          <a:xfrm>
            <a:off x="7143840" y="42876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ая соединительная линия 41"/>
          <p:cNvSpPr/>
          <p:nvPr/>
        </p:nvSpPr>
        <p:spPr>
          <a:xfrm flipH="1">
            <a:off x="6928920" y="1000080"/>
            <a:ext cx="35748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42"/>
          <p:cNvSpPr/>
          <p:nvPr/>
        </p:nvSpPr>
        <p:spPr>
          <a:xfrm flipH="1" flipV="1">
            <a:off x="7571880" y="1000080"/>
            <a:ext cx="42876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ая соединительная линия 43"/>
          <p:cNvSpPr/>
          <p:nvPr/>
        </p:nvSpPr>
        <p:spPr>
          <a:xfrm flipH="1">
            <a:off x="7286760" y="164304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44"/>
          <p:cNvSpPr/>
          <p:nvPr/>
        </p:nvSpPr>
        <p:spPr>
          <a:xfrm flipH="1">
            <a:off x="7500960" y="164304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Хорда 45"/>
          <p:cNvSpPr/>
          <p:nvPr/>
        </p:nvSpPr>
        <p:spPr>
          <a:xfrm rot="17726400">
            <a:off x="7453080" y="185688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7">
                <a:moveTo>
                  <a:pt x="259286" y="227535"/>
                </a:moveTo>
                <a:lnTo>
                  <a:pt x="259286" y="227535"/>
                </a:lnTo>
                <a:arcTo wR="159544" hR="127794" stAng="2700000" swAng="13500000"/>
                <a:close/>
              </a:path>
            </a:pathLst>
          </a:custGeom>
          <a:solidFill>
            <a:srgbClr val="7030a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Хорда 46"/>
          <p:cNvSpPr/>
          <p:nvPr/>
        </p:nvSpPr>
        <p:spPr>
          <a:xfrm rot="17726400">
            <a:off x="7105320" y="1836360"/>
            <a:ext cx="338400" cy="287640"/>
          </a:xfrm>
          <a:custGeom>
            <a:avLst/>
            <a:gdLst>
              <a:gd name="textAreaLeft" fmla="*/ 49320 w 338400"/>
              <a:gd name="textAreaRight" fmla="*/ 289080 w 3384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338137" h="287338">
                <a:moveTo>
                  <a:pt x="278548" y="253149"/>
                </a:moveTo>
                <a:lnTo>
                  <a:pt x="278548" y="253149"/>
                </a:lnTo>
                <a:arcTo wR="169069" hR="143669" stAng="2700000" swAng="13500000"/>
                <a:close/>
              </a:path>
            </a:pathLst>
          </a:custGeom>
          <a:solidFill>
            <a:srgbClr val="7030a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Трапеция 47"/>
          <p:cNvSpPr/>
          <p:nvPr/>
        </p:nvSpPr>
        <p:spPr>
          <a:xfrm>
            <a:off x="5357880" y="321480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00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Улыбающееся лицо 48"/>
          <p:cNvSpPr/>
          <p:nvPr/>
        </p:nvSpPr>
        <p:spPr>
          <a:xfrm>
            <a:off x="5500800" y="271476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ая соединительная линия 49"/>
          <p:cNvSpPr/>
          <p:nvPr/>
        </p:nvSpPr>
        <p:spPr>
          <a:xfrm flipH="1">
            <a:off x="5285880" y="3286080"/>
            <a:ext cx="35748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ая соединительная линия 50"/>
          <p:cNvSpPr/>
          <p:nvPr/>
        </p:nvSpPr>
        <p:spPr>
          <a:xfrm flipH="1">
            <a:off x="5928840" y="3214800"/>
            <a:ext cx="428760" cy="712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ая соединительная линия 51"/>
          <p:cNvSpPr/>
          <p:nvPr/>
        </p:nvSpPr>
        <p:spPr>
          <a:xfrm flipH="1">
            <a:off x="5643720" y="393048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ая соединительная линия 52"/>
          <p:cNvSpPr/>
          <p:nvPr/>
        </p:nvSpPr>
        <p:spPr>
          <a:xfrm flipH="1">
            <a:off x="5857920" y="392904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Хорда 53"/>
          <p:cNvSpPr/>
          <p:nvPr/>
        </p:nvSpPr>
        <p:spPr>
          <a:xfrm rot="17726400">
            <a:off x="5810040" y="414288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8">
                <a:moveTo>
                  <a:pt x="259286" y="227536"/>
                </a:moveTo>
                <a:lnTo>
                  <a:pt x="259286" y="227536"/>
                </a:lnTo>
                <a:arcTo wR="159544" hR="127794" stAng="2700000" swAng="13500000"/>
                <a:close/>
              </a:path>
            </a:pathLst>
          </a:custGeom>
          <a:solidFill>
            <a:srgbClr val="00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Хорда 54"/>
          <p:cNvSpPr/>
          <p:nvPr/>
        </p:nvSpPr>
        <p:spPr>
          <a:xfrm rot="17726400">
            <a:off x="5462280" y="4122360"/>
            <a:ext cx="338400" cy="287640"/>
          </a:xfrm>
          <a:custGeom>
            <a:avLst/>
            <a:gdLst>
              <a:gd name="textAreaLeft" fmla="*/ 49320 w 338400"/>
              <a:gd name="textAreaRight" fmla="*/ 289080 w 3384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338137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00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Трапеция 55"/>
          <p:cNvSpPr/>
          <p:nvPr/>
        </p:nvSpPr>
        <p:spPr>
          <a:xfrm>
            <a:off x="7643880" y="285768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Улыбающееся лицо 56"/>
          <p:cNvSpPr/>
          <p:nvPr/>
        </p:nvSpPr>
        <p:spPr>
          <a:xfrm>
            <a:off x="7786800" y="2357280"/>
            <a:ext cx="571320" cy="50040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ая соединительная линия 57"/>
          <p:cNvSpPr/>
          <p:nvPr/>
        </p:nvSpPr>
        <p:spPr>
          <a:xfrm flipH="1">
            <a:off x="7571880" y="2928960"/>
            <a:ext cx="35748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ая соединительная линия 58"/>
          <p:cNvSpPr/>
          <p:nvPr/>
        </p:nvSpPr>
        <p:spPr>
          <a:xfrm flipH="1" flipV="1">
            <a:off x="8214840" y="2928600"/>
            <a:ext cx="35748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ая соединительная линия 59"/>
          <p:cNvSpPr/>
          <p:nvPr/>
        </p:nvSpPr>
        <p:spPr>
          <a:xfrm flipH="1">
            <a:off x="7929720" y="357336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ая соединительная линия 60"/>
          <p:cNvSpPr/>
          <p:nvPr/>
        </p:nvSpPr>
        <p:spPr>
          <a:xfrm flipH="1">
            <a:off x="8143920" y="357192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Хорда 61"/>
          <p:cNvSpPr/>
          <p:nvPr/>
        </p:nvSpPr>
        <p:spPr>
          <a:xfrm rot="17726400">
            <a:off x="8096040" y="371484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8">
                <a:moveTo>
                  <a:pt x="259286" y="227536"/>
                </a:moveTo>
                <a:lnTo>
                  <a:pt x="259286" y="227536"/>
                </a:lnTo>
                <a:arcTo wR="159544" hR="127794" stAng="2700000" swAng="13500000"/>
                <a:close/>
              </a:path>
            </a:pathLst>
          </a:custGeom>
          <a:solidFill>
            <a:srgbClr val="99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Хорда 62"/>
          <p:cNvSpPr/>
          <p:nvPr/>
        </p:nvSpPr>
        <p:spPr>
          <a:xfrm rot="17726400">
            <a:off x="7748280" y="3765240"/>
            <a:ext cx="338400" cy="287640"/>
          </a:xfrm>
          <a:custGeom>
            <a:avLst/>
            <a:gdLst>
              <a:gd name="textAreaLeft" fmla="*/ 49320 w 338400"/>
              <a:gd name="textAreaRight" fmla="*/ 289080 w 33840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338138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9999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Трапеция 63"/>
          <p:cNvSpPr/>
          <p:nvPr/>
        </p:nvSpPr>
        <p:spPr>
          <a:xfrm>
            <a:off x="5143680" y="507204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a8cdd7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Улыбающееся лицо 64"/>
          <p:cNvSpPr/>
          <p:nvPr/>
        </p:nvSpPr>
        <p:spPr>
          <a:xfrm>
            <a:off x="5286240" y="457200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ая соединительная линия 65"/>
          <p:cNvSpPr/>
          <p:nvPr/>
        </p:nvSpPr>
        <p:spPr>
          <a:xfrm flipH="1">
            <a:off x="5072040" y="5142960"/>
            <a:ext cx="35712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66"/>
          <p:cNvSpPr/>
          <p:nvPr/>
        </p:nvSpPr>
        <p:spPr>
          <a:xfrm flipH="1" flipV="1">
            <a:off x="5714640" y="5143320"/>
            <a:ext cx="42876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67"/>
          <p:cNvSpPr/>
          <p:nvPr/>
        </p:nvSpPr>
        <p:spPr>
          <a:xfrm flipH="1">
            <a:off x="5428800" y="5788080"/>
            <a:ext cx="180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68"/>
          <p:cNvSpPr/>
          <p:nvPr/>
        </p:nvSpPr>
        <p:spPr>
          <a:xfrm flipH="1">
            <a:off x="5643720" y="5786280"/>
            <a:ext cx="1440" cy="357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Хорда 69"/>
          <p:cNvSpPr/>
          <p:nvPr/>
        </p:nvSpPr>
        <p:spPr>
          <a:xfrm rot="17726400">
            <a:off x="5595480" y="600084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7">
                <a:moveTo>
                  <a:pt x="259286" y="227535"/>
                </a:moveTo>
                <a:lnTo>
                  <a:pt x="259286" y="227535"/>
                </a:lnTo>
                <a:arcTo wR="159544" hR="127794" stAng="2700000" swAng="13500000"/>
                <a:close/>
              </a:path>
            </a:pathLst>
          </a:custGeom>
          <a:solidFill>
            <a:srgbClr val="a8cdd7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Хорда 70"/>
          <p:cNvSpPr/>
          <p:nvPr/>
        </p:nvSpPr>
        <p:spPr>
          <a:xfrm rot="17726400">
            <a:off x="5248080" y="597960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7" h="287338">
                <a:moveTo>
                  <a:pt x="278548" y="253149"/>
                </a:moveTo>
                <a:lnTo>
                  <a:pt x="278548" y="253149"/>
                </a:lnTo>
                <a:arcTo wR="169069" hR="143669" stAng="2700000" swAng="13500000"/>
                <a:close/>
              </a:path>
            </a:pathLst>
          </a:custGeom>
          <a:solidFill>
            <a:srgbClr val="a8cdd7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Трапеция 71"/>
          <p:cNvSpPr/>
          <p:nvPr/>
        </p:nvSpPr>
        <p:spPr>
          <a:xfrm>
            <a:off x="6429240" y="5357880"/>
            <a:ext cx="857520" cy="714240"/>
          </a:xfrm>
          <a:custGeom>
            <a:avLst/>
            <a:gdLst>
              <a:gd name="textAreaLeft" fmla="*/ 200880 w 857520"/>
              <a:gd name="textAreaRight" fmla="*/ 656640 w 85752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Улыбающееся лицо 72"/>
          <p:cNvSpPr/>
          <p:nvPr/>
        </p:nvSpPr>
        <p:spPr>
          <a:xfrm>
            <a:off x="6572160" y="485784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73"/>
          <p:cNvSpPr/>
          <p:nvPr/>
        </p:nvSpPr>
        <p:spPr>
          <a:xfrm flipH="1">
            <a:off x="6357960" y="5429160"/>
            <a:ext cx="35712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ая соединительная линия 74"/>
          <p:cNvSpPr/>
          <p:nvPr/>
        </p:nvSpPr>
        <p:spPr>
          <a:xfrm flipH="1">
            <a:off x="7000560" y="5357880"/>
            <a:ext cx="428760" cy="712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ая соединительная линия 75"/>
          <p:cNvSpPr/>
          <p:nvPr/>
        </p:nvSpPr>
        <p:spPr>
          <a:xfrm flipH="1">
            <a:off x="6714720" y="6073920"/>
            <a:ext cx="180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ая соединительная линия 76"/>
          <p:cNvSpPr/>
          <p:nvPr/>
        </p:nvSpPr>
        <p:spPr>
          <a:xfrm flipH="1">
            <a:off x="6928920" y="6072120"/>
            <a:ext cx="180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Хорда 77"/>
          <p:cNvSpPr/>
          <p:nvPr/>
        </p:nvSpPr>
        <p:spPr>
          <a:xfrm rot="17726400">
            <a:off x="6881400" y="628596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7">
                <a:moveTo>
                  <a:pt x="259286" y="227535"/>
                </a:moveTo>
                <a:lnTo>
                  <a:pt x="259286" y="227535"/>
                </a:lnTo>
                <a:arcTo wR="159544" hR="127794" stAng="2700000" swAng="13500000"/>
                <a:close/>
              </a:path>
            </a:pathLst>
          </a:custGeom>
          <a:solidFill>
            <a:srgbClr val="00ff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Хорда 78"/>
          <p:cNvSpPr/>
          <p:nvPr/>
        </p:nvSpPr>
        <p:spPr>
          <a:xfrm rot="17726400">
            <a:off x="6534000" y="626544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7" h="287338">
                <a:moveTo>
                  <a:pt x="278548" y="253149"/>
                </a:moveTo>
                <a:lnTo>
                  <a:pt x="278548" y="253149"/>
                </a:lnTo>
                <a:arcTo wR="169069" hR="143669" stAng="2700000" swAng="13500000"/>
                <a:close/>
              </a:path>
            </a:pathLst>
          </a:custGeom>
          <a:solidFill>
            <a:srgbClr val="00ff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Трапеция 79"/>
          <p:cNvSpPr/>
          <p:nvPr/>
        </p:nvSpPr>
        <p:spPr>
          <a:xfrm>
            <a:off x="7786800" y="485784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9966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Улыбающееся лицо 80"/>
          <p:cNvSpPr/>
          <p:nvPr/>
        </p:nvSpPr>
        <p:spPr>
          <a:xfrm>
            <a:off x="7929720" y="435780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ая соединительная линия 81"/>
          <p:cNvSpPr/>
          <p:nvPr/>
        </p:nvSpPr>
        <p:spPr>
          <a:xfrm flipH="1">
            <a:off x="7715160" y="4929120"/>
            <a:ext cx="35712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ая соединительная линия 82"/>
          <p:cNvSpPr/>
          <p:nvPr/>
        </p:nvSpPr>
        <p:spPr>
          <a:xfrm flipH="1" flipV="1">
            <a:off x="8358120" y="4929120"/>
            <a:ext cx="2858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ая соединительная линия 83"/>
          <p:cNvSpPr/>
          <p:nvPr/>
        </p:nvSpPr>
        <p:spPr>
          <a:xfrm flipH="1">
            <a:off x="8071920" y="5573880"/>
            <a:ext cx="180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ая соединительная линия 84"/>
          <p:cNvSpPr/>
          <p:nvPr/>
        </p:nvSpPr>
        <p:spPr>
          <a:xfrm flipH="1">
            <a:off x="8286840" y="557208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Хорда 85"/>
          <p:cNvSpPr/>
          <p:nvPr/>
        </p:nvSpPr>
        <p:spPr>
          <a:xfrm rot="17726400">
            <a:off x="8238960" y="578592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8">
                <a:moveTo>
                  <a:pt x="259285" y="227536"/>
                </a:moveTo>
                <a:lnTo>
                  <a:pt x="259285" y="227536"/>
                </a:lnTo>
                <a:arcTo wR="159544" hR="127794" stAng="2700000" swAng="13500000"/>
                <a:close/>
              </a:path>
            </a:pathLst>
          </a:custGeom>
          <a:solidFill>
            <a:srgbClr val="9966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Хорда 86"/>
          <p:cNvSpPr/>
          <p:nvPr/>
        </p:nvSpPr>
        <p:spPr>
          <a:xfrm rot="17726400">
            <a:off x="7891200" y="576540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8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9966ff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C:\Users\пользователь\Pictures\анимация\анимации\54010[1].gif"/>
          <p:cNvPicPr/>
          <p:nvPr/>
        </p:nvPicPr>
        <p:blipFill>
          <a:blip r:embed="rId2"/>
          <a:stretch/>
        </p:blipFill>
        <p:spPr>
          <a:xfrm>
            <a:off x="214200" y="28584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E:\2.jpg"/>
          <p:cNvPicPr/>
          <p:nvPr/>
        </p:nvPicPr>
        <p:blipFill>
          <a:blip r:embed="rId1">
            <a:lum contrast="30000"/>
          </a:blip>
          <a:srcRect l="15350" t="18751" r="13902" b="17711"/>
          <a:stretch/>
        </p:blipFill>
        <p:spPr>
          <a:xfrm>
            <a:off x="4726080" y="285840"/>
            <a:ext cx="4132080" cy="5143320"/>
          </a:xfrm>
          <a:prstGeom prst="rect">
            <a:avLst/>
          </a:prstGeom>
          <a:ln w="0">
            <a:noFill/>
          </a:ln>
        </p:spPr>
      </p:pic>
      <p:sp>
        <p:nvSpPr>
          <p:cNvPr id="582" name="TextBox 2"/>
          <p:cNvSpPr/>
          <p:nvPr/>
        </p:nvSpPr>
        <p:spPr>
          <a:xfrm>
            <a:off x="500040" y="571680"/>
            <a:ext cx="4214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 другом замке волшебница опускает свой </a:t>
            </a:r>
            <a:r>
              <a:rPr b="1" lang="ru-RU" sz="3200" spc="-1" strike="noStrike">
                <a:solidFill>
                  <a:srgbClr val="ffff00"/>
                </a:solidFill>
                <a:latin typeface="Cambria"/>
              </a:rPr>
              <a:t>жёлтый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 луч в каждую краску, и она превращается в теплую, солнечн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Users\пользователь\Desktop\анимации\priroda029[1].gif"/>
          <p:cNvPicPr/>
          <p:nvPr/>
        </p:nvPicPr>
        <p:blipFill>
          <a:blip r:embed="rId2"/>
          <a:stretch/>
        </p:blipFill>
        <p:spPr>
          <a:xfrm>
            <a:off x="1143000" y="4143240"/>
            <a:ext cx="2719440" cy="2525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E:\4.jpg"/>
          <p:cNvPicPr/>
          <p:nvPr/>
        </p:nvPicPr>
        <p:blipFill>
          <a:blip r:embed="rId1">
            <a:lum contrast="20000"/>
          </a:blip>
          <a:srcRect l="54336" t="23959" r="15348" b="44794"/>
          <a:stretch/>
        </p:blipFill>
        <p:spPr>
          <a:xfrm>
            <a:off x="357120" y="428760"/>
            <a:ext cx="4143600" cy="5919480"/>
          </a:xfrm>
          <a:prstGeom prst="rect">
            <a:avLst/>
          </a:prstGeom>
          <a:ln w="0">
            <a:noFill/>
          </a:ln>
        </p:spPr>
      </p:pic>
      <p:sp>
        <p:nvSpPr>
          <p:cNvPr id="585" name="Трапеция 3"/>
          <p:cNvSpPr/>
          <p:nvPr/>
        </p:nvSpPr>
        <p:spPr>
          <a:xfrm>
            <a:off x="7358040" y="3000240"/>
            <a:ext cx="857160" cy="71460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66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Улыбающееся лицо 4"/>
          <p:cNvSpPr/>
          <p:nvPr/>
        </p:nvSpPr>
        <p:spPr>
          <a:xfrm>
            <a:off x="7500960" y="250020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ая соединительная линия 5"/>
          <p:cNvSpPr/>
          <p:nvPr/>
        </p:nvSpPr>
        <p:spPr>
          <a:xfrm flipH="1" flipV="1">
            <a:off x="7286760" y="2857320"/>
            <a:ext cx="35712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ая соединительная линия 6"/>
          <p:cNvSpPr/>
          <p:nvPr/>
        </p:nvSpPr>
        <p:spPr>
          <a:xfrm flipH="1" flipV="1">
            <a:off x="7929720" y="3071520"/>
            <a:ext cx="35712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ая соединительная линия 7"/>
          <p:cNvSpPr/>
          <p:nvPr/>
        </p:nvSpPr>
        <p:spPr>
          <a:xfrm flipH="1">
            <a:off x="7643880" y="371628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ая соединительная линия 8"/>
          <p:cNvSpPr/>
          <p:nvPr/>
        </p:nvSpPr>
        <p:spPr>
          <a:xfrm flipH="1">
            <a:off x="7857720" y="3714840"/>
            <a:ext cx="180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Хорда 9"/>
          <p:cNvSpPr/>
          <p:nvPr/>
        </p:nvSpPr>
        <p:spPr>
          <a:xfrm rot="17726400">
            <a:off x="7810200" y="385704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8">
                <a:moveTo>
                  <a:pt x="259286" y="227536"/>
                </a:moveTo>
                <a:lnTo>
                  <a:pt x="259286" y="227536"/>
                </a:lnTo>
                <a:arcTo wR="159544" hR="127794" stAng="2700000" swAng="13500000"/>
                <a:close/>
              </a:path>
            </a:pathLst>
          </a:custGeom>
          <a:solidFill>
            <a:srgbClr val="ff66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Хорда 10"/>
          <p:cNvSpPr/>
          <p:nvPr/>
        </p:nvSpPr>
        <p:spPr>
          <a:xfrm rot="17726400">
            <a:off x="7462800" y="390780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8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ff66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Трапеция 11"/>
          <p:cNvSpPr/>
          <p:nvPr/>
        </p:nvSpPr>
        <p:spPr>
          <a:xfrm>
            <a:off x="5357880" y="114300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Улыбающееся лицо 12"/>
          <p:cNvSpPr/>
          <p:nvPr/>
        </p:nvSpPr>
        <p:spPr>
          <a:xfrm>
            <a:off x="5500800" y="64296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ая соединительная линия 13"/>
          <p:cNvSpPr/>
          <p:nvPr/>
        </p:nvSpPr>
        <p:spPr>
          <a:xfrm flipH="1">
            <a:off x="5285880" y="1214280"/>
            <a:ext cx="35748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ая соединительная линия 14"/>
          <p:cNvSpPr/>
          <p:nvPr/>
        </p:nvSpPr>
        <p:spPr>
          <a:xfrm flipH="1" flipV="1">
            <a:off x="5928840" y="1214280"/>
            <a:ext cx="357480" cy="21456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15"/>
          <p:cNvSpPr/>
          <p:nvPr/>
        </p:nvSpPr>
        <p:spPr>
          <a:xfrm flipH="1">
            <a:off x="5643720" y="185724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16"/>
          <p:cNvSpPr/>
          <p:nvPr/>
        </p:nvSpPr>
        <p:spPr>
          <a:xfrm flipH="1">
            <a:off x="5857920" y="1857240"/>
            <a:ext cx="1440" cy="357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Хорда 17"/>
          <p:cNvSpPr/>
          <p:nvPr/>
        </p:nvSpPr>
        <p:spPr>
          <a:xfrm rot="17726400">
            <a:off x="5810040" y="200016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8">
                <a:moveTo>
                  <a:pt x="259286" y="227536"/>
                </a:moveTo>
                <a:lnTo>
                  <a:pt x="259286" y="227536"/>
                </a:lnTo>
                <a:arcTo wR="159544" hR="127794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Хорда 18"/>
          <p:cNvSpPr/>
          <p:nvPr/>
        </p:nvSpPr>
        <p:spPr>
          <a:xfrm rot="17726400">
            <a:off x="5319000" y="2070360"/>
            <a:ext cx="339480" cy="287280"/>
          </a:xfrm>
          <a:custGeom>
            <a:avLst/>
            <a:gdLst>
              <a:gd name="textAreaLeft" fmla="*/ 49680 w 339480"/>
              <a:gd name="textAreaRight" fmla="*/ 289800 w 3394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9725" h="287337">
                <a:moveTo>
                  <a:pt x="279557" y="253363"/>
                </a:moveTo>
                <a:lnTo>
                  <a:pt x="279557" y="253363"/>
                </a:lnTo>
                <a:arcTo wR="169863" hR="143669" stAng="2700000" swAng="13500000"/>
                <a:close/>
              </a:path>
            </a:pathLst>
          </a:custGeom>
          <a:solidFill>
            <a:srgbClr val="ffff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Трапеция 19"/>
          <p:cNvSpPr/>
          <p:nvPr/>
        </p:nvSpPr>
        <p:spPr>
          <a:xfrm>
            <a:off x="4786200" y="3429000"/>
            <a:ext cx="857520" cy="714240"/>
          </a:xfrm>
          <a:custGeom>
            <a:avLst/>
            <a:gdLst>
              <a:gd name="textAreaLeft" fmla="*/ 200880 w 857520"/>
              <a:gd name="textAreaRight" fmla="*/ 656640 w 85752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ff6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Улыбающееся лицо 20"/>
          <p:cNvSpPr/>
          <p:nvPr/>
        </p:nvSpPr>
        <p:spPr>
          <a:xfrm>
            <a:off x="4929120" y="292896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21"/>
          <p:cNvSpPr/>
          <p:nvPr/>
        </p:nvSpPr>
        <p:spPr>
          <a:xfrm flipH="1" flipV="1">
            <a:off x="4714920" y="3499920"/>
            <a:ext cx="357120" cy="18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22"/>
          <p:cNvSpPr/>
          <p:nvPr/>
        </p:nvSpPr>
        <p:spPr>
          <a:xfrm flipH="1" flipV="1">
            <a:off x="5357880" y="3500280"/>
            <a:ext cx="357120" cy="21456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23"/>
          <p:cNvSpPr/>
          <p:nvPr/>
        </p:nvSpPr>
        <p:spPr>
          <a:xfrm flipH="1">
            <a:off x="5072040" y="414504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24"/>
          <p:cNvSpPr/>
          <p:nvPr/>
        </p:nvSpPr>
        <p:spPr>
          <a:xfrm flipH="1">
            <a:off x="5285880" y="4143240"/>
            <a:ext cx="1800" cy="357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Хорда 25"/>
          <p:cNvSpPr/>
          <p:nvPr/>
        </p:nvSpPr>
        <p:spPr>
          <a:xfrm rot="17726400">
            <a:off x="5238360" y="428616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8">
                <a:moveTo>
                  <a:pt x="259286" y="227536"/>
                </a:moveTo>
                <a:lnTo>
                  <a:pt x="259286" y="227536"/>
                </a:lnTo>
                <a:arcTo wR="159544" hR="127794" stAng="2700000" swAng="13500000"/>
                <a:close/>
              </a:path>
            </a:pathLst>
          </a:custGeom>
          <a:solidFill>
            <a:srgbClr val="ffff6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Хорда 26"/>
          <p:cNvSpPr/>
          <p:nvPr/>
        </p:nvSpPr>
        <p:spPr>
          <a:xfrm rot="17726400">
            <a:off x="4890960" y="433656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8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ffff6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Трапеция 27"/>
          <p:cNvSpPr/>
          <p:nvPr/>
        </p:nvSpPr>
        <p:spPr>
          <a:xfrm>
            <a:off x="7643880" y="507204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99cc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Улыбающееся лицо 28"/>
          <p:cNvSpPr/>
          <p:nvPr/>
        </p:nvSpPr>
        <p:spPr>
          <a:xfrm>
            <a:off x="7786800" y="457200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29"/>
          <p:cNvSpPr/>
          <p:nvPr/>
        </p:nvSpPr>
        <p:spPr>
          <a:xfrm flipH="1" flipV="1">
            <a:off x="7500600" y="5143680"/>
            <a:ext cx="428760" cy="14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30"/>
          <p:cNvSpPr/>
          <p:nvPr/>
        </p:nvSpPr>
        <p:spPr>
          <a:xfrm flipH="1" flipV="1">
            <a:off x="8214840" y="5143320"/>
            <a:ext cx="35748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31"/>
          <p:cNvSpPr/>
          <p:nvPr/>
        </p:nvSpPr>
        <p:spPr>
          <a:xfrm flipH="1">
            <a:off x="7929720" y="578808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ая соединительная линия 32"/>
          <p:cNvSpPr/>
          <p:nvPr/>
        </p:nvSpPr>
        <p:spPr>
          <a:xfrm flipH="1">
            <a:off x="8143920" y="5786280"/>
            <a:ext cx="1440" cy="357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Хорда 33"/>
          <p:cNvSpPr/>
          <p:nvPr/>
        </p:nvSpPr>
        <p:spPr>
          <a:xfrm rot="17726400">
            <a:off x="8096040" y="592920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8">
                <a:moveTo>
                  <a:pt x="259285" y="227536"/>
                </a:moveTo>
                <a:lnTo>
                  <a:pt x="259285" y="227536"/>
                </a:lnTo>
                <a:arcTo wR="159544" hR="127794" stAng="2700000" swAng="13500000"/>
                <a:close/>
              </a:path>
            </a:pathLst>
          </a:custGeom>
          <a:solidFill>
            <a:srgbClr val="99cc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Хорда 34"/>
          <p:cNvSpPr/>
          <p:nvPr/>
        </p:nvSpPr>
        <p:spPr>
          <a:xfrm rot="17726400">
            <a:off x="7748280" y="5979600"/>
            <a:ext cx="338040" cy="28764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640"/>
              <a:gd name="textAreaBottom" fmla="*/ 245520 h 287640"/>
            </a:gdLst>
            <a:ahLst/>
            <a:rect l="textAreaLeft" t="textAreaTop" r="textAreaRight" b="textAreaBottom"/>
            <a:pathLst>
              <a:path w="338137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99cc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Трапеция 35"/>
          <p:cNvSpPr/>
          <p:nvPr/>
        </p:nvSpPr>
        <p:spPr>
          <a:xfrm>
            <a:off x="7500960" y="857160"/>
            <a:ext cx="857160" cy="71460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c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Улыбающееся лицо 36"/>
          <p:cNvSpPr/>
          <p:nvPr/>
        </p:nvSpPr>
        <p:spPr>
          <a:xfrm>
            <a:off x="7643880" y="35712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ая соединительная линия 37"/>
          <p:cNvSpPr/>
          <p:nvPr/>
        </p:nvSpPr>
        <p:spPr>
          <a:xfrm flipH="1">
            <a:off x="7429680" y="928080"/>
            <a:ext cx="35712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ая соединительная линия 38"/>
          <p:cNvSpPr/>
          <p:nvPr/>
        </p:nvSpPr>
        <p:spPr>
          <a:xfrm flipH="1" flipV="1">
            <a:off x="8071920" y="928440"/>
            <a:ext cx="357480" cy="21420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ая соединительная линия 39"/>
          <p:cNvSpPr/>
          <p:nvPr/>
        </p:nvSpPr>
        <p:spPr>
          <a:xfrm flipH="1">
            <a:off x="7786800" y="1571760"/>
            <a:ext cx="144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ая соединительная линия 40"/>
          <p:cNvSpPr/>
          <p:nvPr/>
        </p:nvSpPr>
        <p:spPr>
          <a:xfrm flipH="1">
            <a:off x="8001000" y="157176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Хорда 41"/>
          <p:cNvSpPr/>
          <p:nvPr/>
        </p:nvSpPr>
        <p:spPr>
          <a:xfrm rot="17726400">
            <a:off x="7953120" y="171396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8">
                <a:moveTo>
                  <a:pt x="259286" y="227536"/>
                </a:moveTo>
                <a:lnTo>
                  <a:pt x="259286" y="227536"/>
                </a:lnTo>
                <a:arcTo wR="159544" hR="127794" stAng="2700000" swAng="13500000"/>
                <a:close/>
              </a:path>
            </a:pathLst>
          </a:custGeom>
          <a:solidFill>
            <a:srgbClr val="ffc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Хорда 42"/>
          <p:cNvSpPr/>
          <p:nvPr/>
        </p:nvSpPr>
        <p:spPr>
          <a:xfrm rot="17726400">
            <a:off x="7605720" y="176472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8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ffc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Трапеция 49"/>
          <p:cNvSpPr/>
          <p:nvPr/>
        </p:nvSpPr>
        <p:spPr>
          <a:xfrm>
            <a:off x="6357960" y="92880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Улыбающееся лицо 50"/>
          <p:cNvSpPr/>
          <p:nvPr/>
        </p:nvSpPr>
        <p:spPr>
          <a:xfrm>
            <a:off x="6500880" y="42876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ая соединительная линия 51"/>
          <p:cNvSpPr/>
          <p:nvPr/>
        </p:nvSpPr>
        <p:spPr>
          <a:xfrm flipH="1">
            <a:off x="6286680" y="1000080"/>
            <a:ext cx="35712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ая соединительная линия 52"/>
          <p:cNvSpPr/>
          <p:nvPr/>
        </p:nvSpPr>
        <p:spPr>
          <a:xfrm flipH="1">
            <a:off x="6928920" y="928800"/>
            <a:ext cx="428760" cy="712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ая соединительная линия 53"/>
          <p:cNvSpPr/>
          <p:nvPr/>
        </p:nvSpPr>
        <p:spPr>
          <a:xfrm flipH="1">
            <a:off x="6643800" y="164304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ая соединительная линия 54"/>
          <p:cNvSpPr/>
          <p:nvPr/>
        </p:nvSpPr>
        <p:spPr>
          <a:xfrm flipH="1">
            <a:off x="6858000" y="164304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Хорда 55"/>
          <p:cNvSpPr/>
          <p:nvPr/>
        </p:nvSpPr>
        <p:spPr>
          <a:xfrm rot="17726400">
            <a:off x="6810120" y="185688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8">
                <a:moveTo>
                  <a:pt x="259286" y="227536"/>
                </a:moveTo>
                <a:lnTo>
                  <a:pt x="259286" y="227536"/>
                </a:lnTo>
                <a:arcTo wR="159544" hR="127794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Хорда 56"/>
          <p:cNvSpPr/>
          <p:nvPr/>
        </p:nvSpPr>
        <p:spPr>
          <a:xfrm rot="17726400">
            <a:off x="6462720" y="1836360"/>
            <a:ext cx="338400" cy="287280"/>
          </a:xfrm>
          <a:custGeom>
            <a:avLst/>
            <a:gdLst>
              <a:gd name="textAreaLeft" fmla="*/ 49320 w 338400"/>
              <a:gd name="textAreaRight" fmla="*/ 289080 w 33840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7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ff00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Трапеция 57"/>
          <p:cNvSpPr/>
          <p:nvPr/>
        </p:nvSpPr>
        <p:spPr>
          <a:xfrm>
            <a:off x="6357960" y="3143160"/>
            <a:ext cx="857160" cy="71460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600"/>
              <a:gd name="textAreaBottom" fmla="*/ 714600 h 71460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fc3a5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Улыбающееся лицо 58"/>
          <p:cNvSpPr/>
          <p:nvPr/>
        </p:nvSpPr>
        <p:spPr>
          <a:xfrm>
            <a:off x="6500880" y="264312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Прямая соединительная линия 59"/>
          <p:cNvSpPr/>
          <p:nvPr/>
        </p:nvSpPr>
        <p:spPr>
          <a:xfrm flipH="1">
            <a:off x="6286680" y="3214080"/>
            <a:ext cx="35712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ая соединительная линия 60"/>
          <p:cNvSpPr/>
          <p:nvPr/>
        </p:nvSpPr>
        <p:spPr>
          <a:xfrm flipH="1">
            <a:off x="6928920" y="3142440"/>
            <a:ext cx="428760" cy="716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ая соединительная линия 61"/>
          <p:cNvSpPr/>
          <p:nvPr/>
        </p:nvSpPr>
        <p:spPr>
          <a:xfrm flipH="1">
            <a:off x="6643800" y="385920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ая соединительная линия 62"/>
          <p:cNvSpPr/>
          <p:nvPr/>
        </p:nvSpPr>
        <p:spPr>
          <a:xfrm flipH="1">
            <a:off x="6858000" y="385776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Хорда 63"/>
          <p:cNvSpPr/>
          <p:nvPr/>
        </p:nvSpPr>
        <p:spPr>
          <a:xfrm rot="17726400">
            <a:off x="6810120" y="407196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7" h="255588">
                <a:moveTo>
                  <a:pt x="259285" y="227536"/>
                </a:moveTo>
                <a:lnTo>
                  <a:pt x="259285" y="227536"/>
                </a:lnTo>
                <a:arcTo wR="159544" hR="127794" stAng="2700000" swAng="13500000"/>
                <a:close/>
              </a:path>
            </a:pathLst>
          </a:custGeom>
          <a:solidFill>
            <a:srgbClr val="fc3a5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Хорда 64"/>
          <p:cNvSpPr/>
          <p:nvPr/>
        </p:nvSpPr>
        <p:spPr>
          <a:xfrm rot="17726400">
            <a:off x="6462720" y="405072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8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fc3a5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Трапеция 65"/>
          <p:cNvSpPr/>
          <p:nvPr/>
        </p:nvSpPr>
        <p:spPr>
          <a:xfrm>
            <a:off x="6215040" y="507204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6633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Улыбающееся лицо 66"/>
          <p:cNvSpPr/>
          <p:nvPr/>
        </p:nvSpPr>
        <p:spPr>
          <a:xfrm>
            <a:off x="6357960" y="4572000"/>
            <a:ext cx="57132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ая соединительная линия 67"/>
          <p:cNvSpPr/>
          <p:nvPr/>
        </p:nvSpPr>
        <p:spPr>
          <a:xfrm flipH="1">
            <a:off x="6143760" y="5142960"/>
            <a:ext cx="35712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ая соединительная линия 68"/>
          <p:cNvSpPr/>
          <p:nvPr/>
        </p:nvSpPr>
        <p:spPr>
          <a:xfrm flipH="1">
            <a:off x="6786720" y="5071320"/>
            <a:ext cx="428400" cy="716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ая соединительная линия 69"/>
          <p:cNvSpPr/>
          <p:nvPr/>
        </p:nvSpPr>
        <p:spPr>
          <a:xfrm flipH="1">
            <a:off x="6500880" y="5788080"/>
            <a:ext cx="144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70"/>
          <p:cNvSpPr/>
          <p:nvPr/>
        </p:nvSpPr>
        <p:spPr>
          <a:xfrm flipH="1">
            <a:off x="6714720" y="5786280"/>
            <a:ext cx="1800" cy="357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Хорда 71"/>
          <p:cNvSpPr/>
          <p:nvPr/>
        </p:nvSpPr>
        <p:spPr>
          <a:xfrm rot="17726400">
            <a:off x="6667200" y="6000840"/>
            <a:ext cx="318960" cy="255600"/>
          </a:xfrm>
          <a:custGeom>
            <a:avLst/>
            <a:gdLst>
              <a:gd name="textAreaLeft" fmla="*/ 46440 w 318960"/>
              <a:gd name="textAreaRight" fmla="*/ 272520 w 31896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8">
                <a:moveTo>
                  <a:pt x="259286" y="227536"/>
                </a:moveTo>
                <a:lnTo>
                  <a:pt x="259286" y="227536"/>
                </a:lnTo>
                <a:arcTo wR="159544" hR="127794" stAng="2700000" swAng="13500000"/>
                <a:close/>
              </a:path>
            </a:pathLst>
          </a:custGeom>
          <a:solidFill>
            <a:srgbClr val="6633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Хорда 72"/>
          <p:cNvSpPr/>
          <p:nvPr/>
        </p:nvSpPr>
        <p:spPr>
          <a:xfrm rot="17726400">
            <a:off x="6319800" y="597960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7" h="287337">
                <a:moveTo>
                  <a:pt x="278548" y="253148"/>
                </a:moveTo>
                <a:lnTo>
                  <a:pt x="278548" y="253148"/>
                </a:lnTo>
                <a:arcTo wR="169069" hR="143669" stAng="2700000" swAng="13500000"/>
                <a:close/>
              </a:path>
            </a:pathLst>
          </a:custGeom>
          <a:solidFill>
            <a:srgbClr val="663300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Трапеция 73"/>
          <p:cNvSpPr/>
          <p:nvPr/>
        </p:nvSpPr>
        <p:spPr>
          <a:xfrm>
            <a:off x="5143680" y="5357880"/>
            <a:ext cx="857160" cy="714240"/>
          </a:xfrm>
          <a:custGeom>
            <a:avLst/>
            <a:gdLst>
              <a:gd name="textAreaLeft" fmla="*/ 200880 w 857160"/>
              <a:gd name="textAreaRight" fmla="*/ 656280 w 857160"/>
              <a:gd name="textAreaTop" fmla="*/ 167400 h 714240"/>
              <a:gd name="textAreaBottom" fmla="*/ 714600 h 714240"/>
            </a:gdLst>
            <a:ahLst/>
            <a:rect l="textAreaLeft" t="textAreaTop" r="textAreaRight" b="textAreaBottom"/>
            <a:pathLst>
              <a:path w="857250" h="714375">
                <a:moveTo>
                  <a:pt x="0" y="714375"/>
                </a:moveTo>
                <a:lnTo>
                  <a:pt x="301423" y="0"/>
                </a:lnTo>
                <a:lnTo>
                  <a:pt x="555827" y="0"/>
                </a:lnTo>
                <a:lnTo>
                  <a:pt x="857250" y="714375"/>
                </a:lnTo>
                <a:close/>
              </a:path>
            </a:pathLst>
          </a:custGeom>
          <a:solidFill>
            <a:srgbClr val="e4931c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Улыбающееся лицо 74"/>
          <p:cNvSpPr/>
          <p:nvPr/>
        </p:nvSpPr>
        <p:spPr>
          <a:xfrm>
            <a:off x="5286240" y="485784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ebe8d5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ая соединительная линия 75"/>
          <p:cNvSpPr/>
          <p:nvPr/>
        </p:nvSpPr>
        <p:spPr>
          <a:xfrm flipH="1">
            <a:off x="5072040" y="5429160"/>
            <a:ext cx="357120" cy="28584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ая соединительная линия 76"/>
          <p:cNvSpPr/>
          <p:nvPr/>
        </p:nvSpPr>
        <p:spPr>
          <a:xfrm flipH="1">
            <a:off x="5714640" y="5357880"/>
            <a:ext cx="428760" cy="712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ая соединительная линия 77"/>
          <p:cNvSpPr/>
          <p:nvPr/>
        </p:nvSpPr>
        <p:spPr>
          <a:xfrm flipH="1">
            <a:off x="5428800" y="6073920"/>
            <a:ext cx="1800" cy="28548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ая соединительная линия 78"/>
          <p:cNvSpPr/>
          <p:nvPr/>
        </p:nvSpPr>
        <p:spPr>
          <a:xfrm flipH="1">
            <a:off x="5643720" y="6072120"/>
            <a:ext cx="1440" cy="357120"/>
          </a:xfrm>
          <a:prstGeom prst="line">
            <a:avLst/>
          </a:prstGeom>
          <a:ln w="5724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Хорда 79"/>
          <p:cNvSpPr/>
          <p:nvPr/>
        </p:nvSpPr>
        <p:spPr>
          <a:xfrm rot="17726400">
            <a:off x="5595480" y="6285960"/>
            <a:ext cx="319320" cy="255600"/>
          </a:xfrm>
          <a:custGeom>
            <a:avLst/>
            <a:gdLst>
              <a:gd name="textAreaLeft" fmla="*/ 46800 w 319320"/>
              <a:gd name="textAreaRight" fmla="*/ 272520 w 319320"/>
              <a:gd name="textAreaTop" fmla="*/ 37440 h 255600"/>
              <a:gd name="textAreaBottom" fmla="*/ 218160 h 255600"/>
            </a:gdLst>
            <a:ahLst/>
            <a:rect l="textAreaLeft" t="textAreaTop" r="textAreaRight" b="textAreaBottom"/>
            <a:pathLst>
              <a:path w="319088" h="255587">
                <a:moveTo>
                  <a:pt x="259286" y="227535"/>
                </a:moveTo>
                <a:lnTo>
                  <a:pt x="259286" y="227535"/>
                </a:lnTo>
                <a:arcTo wR="159544" hR="127794" stAng="2700000" swAng="13500000"/>
                <a:close/>
              </a:path>
            </a:pathLst>
          </a:custGeom>
          <a:solidFill>
            <a:srgbClr val="e4931c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Хорда 80"/>
          <p:cNvSpPr/>
          <p:nvPr/>
        </p:nvSpPr>
        <p:spPr>
          <a:xfrm rot="17726400">
            <a:off x="5248080" y="6265440"/>
            <a:ext cx="338040" cy="287280"/>
          </a:xfrm>
          <a:custGeom>
            <a:avLst/>
            <a:gdLst>
              <a:gd name="textAreaLeft" fmla="*/ 49320 w 338040"/>
              <a:gd name="textAreaRight" fmla="*/ 288720 w 33804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338137" h="287338">
                <a:moveTo>
                  <a:pt x="278548" y="253149"/>
                </a:moveTo>
                <a:lnTo>
                  <a:pt x="278548" y="253149"/>
                </a:lnTo>
                <a:arcTo wR="169069" hR="143669" stAng="2700000" swAng="13500000"/>
                <a:close/>
              </a:path>
            </a:pathLst>
          </a:custGeom>
          <a:solidFill>
            <a:srgbClr val="e4931c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4" descr="C:\Users\пользователь\Pictures\анимация\sw58.gif"/>
          <p:cNvPicPr/>
          <p:nvPr/>
        </p:nvPicPr>
        <p:blipFill>
          <a:blip r:embed="rId2"/>
          <a:stretch/>
        </p:blipFill>
        <p:spPr>
          <a:xfrm>
            <a:off x="285840" y="357120"/>
            <a:ext cx="96840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8:01:24Z</dcterms:created>
  <dc:creator>Гончарова Н.В.</dc:creator>
  <dc:description/>
  <dc:language>en-US</dc:language>
  <cp:lastModifiedBy>Хозяин</cp:lastModifiedBy>
  <dcterms:modified xsi:type="dcterms:W3CDTF">2014-11-11T16:35:28Z</dcterms:modified>
  <cp:revision>40</cp:revision>
  <dc:subject/>
  <dc:title>Слайд 1</dc:title>
</cp:coreProperties>
</file>