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1D2-F3BA-4843-8316-57B65328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3B5-B1D0-4FD1-970C-E664AED4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A5F-A4A7-4A72-A3CC-BDE3B523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CB4-BD12-4DF9-B082-84743CBE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A81-17BB-4DB0-B87B-3868AAAF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C33-66D4-4204-A55F-E71A6263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0FD-2AC3-42F5-A030-A254D737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F50-6571-471D-BD68-905D69DC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8D5-BD92-4ECF-B479-ECFC283E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75C-A3E8-4357-8329-58BFC8D0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9F3-3A41-4B44-8FCA-DDA5D6A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37A-4A9F-4CAC-BC5C-788A304A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A87B-031E-4677-ADDB-F592B0929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reenmama.ru/dn_images/01/59/36/15/1209788267den0_solnca_(5)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orrynka.narod.ru/trash/tucha.jpg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31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58760"/>
            <a:ext cx="9144000" cy="701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8600" y="1981080"/>
            <a:ext cx="89154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В Стране 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доброты  и вежливости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360440" y="824760"/>
            <a:ext cx="118648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Поговорим 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Вспомним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Научимся отличать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27a"/>
            </a:gs>
            <a:gs pos="100000">
              <a:srgbClr val="90fc9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60948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51746"/>
                    </a:gs>
                  </a:gsLst>
                  <a:lin ang="5400000"/>
                </a:gradFill>
                <a:latin typeface="Arial"/>
              </a:rPr>
              <a:t>Здравствуйт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5174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562720" y="3962520"/>
            <a:ext cx="2895480" cy="24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До свидания!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81280" y="2362320"/>
            <a:ext cx="3571920" cy="114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Impact"/>
              </a:rPr>
              <a:t>Доброе утр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 rot="20135400">
            <a:off x="914400" y="5029200"/>
            <a:ext cx="31240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dc6ff"/>
                  </a:solidFill>
                  <a:miter/>
                </a:ln>
                <a:solidFill>
                  <a:srgbClr val="00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стите!</a:t>
            </a:r>
            <a:endParaRPr b="0" lang="en-US" sz="1800" spc="1" strike="noStrike">
              <a:ln w="9360">
                <a:solidFill>
                  <a:srgbClr val="8dc6ff"/>
                </a:solidFill>
                <a:miter/>
              </a:ln>
              <a:solidFill>
                <a:srgbClr val="00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 rot="1230600">
            <a:off x="4800600" y="1066680"/>
            <a:ext cx="389556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покойной ночи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19867200">
            <a:off x="228240" y="3200040"/>
            <a:ext cx="32004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Пожалуйста!</a:t>
            </a:r>
            <a:endParaRPr b="0" lang="en-US" sz="1800" spc="1" strike="noStrike">
              <a:ln w="9360">
                <a:solidFill>
                  <a:srgbClr val="ff3399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14800" y="5334120"/>
            <a:ext cx="40384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Добрый вечер!</a:t>
            </a:r>
            <a:endParaRPr b="0" lang="en-US" sz="1800" spc="1" strike="noStrike">
              <a:ln w="9360">
                <a:solidFill>
                  <a:srgbClr val="6600ff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6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Картинка 71 из 26763">
            <a:hlinkClick r:id="rId2"/>
          </p:cNvPr>
          <p:cNvPicPr/>
          <p:nvPr/>
        </p:nvPicPr>
        <p:blipFill>
          <a:blip r:embed="rId3"/>
          <a:srcRect l="0" t="0" r="0" b="9872"/>
          <a:stretch/>
        </p:blipFill>
        <p:spPr>
          <a:xfrm>
            <a:off x="4286160" y="0"/>
            <a:ext cx="4857840" cy="3816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29 из 84000"/>
          <p:cNvPicPr/>
          <p:nvPr/>
        </p:nvPicPr>
        <p:blipFill>
          <a:blip r:embed="rId4"/>
          <a:stretch/>
        </p:blipFill>
        <p:spPr>
          <a:xfrm>
            <a:off x="-228600" y="762120"/>
            <a:ext cx="6095880" cy="6476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15532200">
            <a:off x="1285560" y="923040"/>
            <a:ext cx="2438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говорит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добрые слова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17751000">
            <a:off x="3046320" y="1449000"/>
            <a:ext cx="245772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уважает 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взрослых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20029200">
            <a:off x="3931920" y="2546280"/>
            <a:ext cx="2303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любит 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животных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733200">
            <a:off x="4173480" y="4187520"/>
            <a:ext cx="23335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защищает 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слабых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620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Картинка 87 из 8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3470400"/>
            <a:ext cx="6207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 rot="20947200">
            <a:off x="0" y="609120"/>
            <a:ext cx="9496440" cy="503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Спасибо за 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внимание!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04T23:56:4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