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B29-B563-485A-98D3-ED6FCB80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DF5-C251-4251-9352-9DA3D600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A13-B92E-46E7-B38D-B67DACB3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CF3-1C04-4C54-8E35-8FB87C82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D58-763C-49FA-859A-0D25F780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5C7-7FBE-4896-8131-3B6CC2AE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798-472A-4457-AA84-803AE68D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CD8-3980-4F05-BC80-7B4ADAA9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92C-4823-4A46-92B5-005B397B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A52-74CA-4B38-AE1A-E8D6F822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F1B-B41D-4D56-9086-FCA39233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9DE-BD95-4484-8890-ED875490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e9e9e"/>
            </a:gs>
            <a:gs pos="50000">
              <a:srgbClr val="ccffff"/>
            </a:gs>
            <a:gs pos="100000">
              <a:srgbClr val="7e9e9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248C-B2E9-4681-83FC-FC6399DFE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езде исследуйте всечас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то есть велико и прекрас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го еще не видел с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М.В.Ломонос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гра « Верю – не верю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</a:rPr>
              <a:t>1. Северная Америка – имеет площадь   24, 2 млн.км</a:t>
            </a:r>
            <a:r>
              <a:rPr b="0" lang="ru-RU" sz="24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</a:rPr>
              <a:t>2.Северная Америка имеет сухопутную границу с Евр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</a:rPr>
              <a:t>3. Южная крайняя точка – мыс Марья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</a:rPr>
              <a:t>4. Северная Америка омывается Индийским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</a:rPr>
              <a:t>5. Материк омывается Северным Ледовитым оке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</a:rPr>
              <a:t>6.  Материку принадлежит крупнейший архипелаг – Канадский Аркт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</a:rPr>
              <a:t>7. Северная Америка расположена как в северном, так и в южном полуша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</a:rPr>
              <a:t>8.С Южной  Америкой граница проходит через Панамский к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–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–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–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–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–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-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зучить параграф 3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дготовить сооб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Первооткрыватели Северной Амер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Из истории исследования матер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ы сегодня нового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у вас сегодня возникли труд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ам понрав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Мозговой шту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колько на Земле матер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акие материки относятся к южным , а какие к северным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 какими материками вы уже знако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аждый материк уникален по-своему. А какова причина разнообразия природы матер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Угадай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математика\Desktop\к.JPG"/>
          <p:cNvPicPr/>
          <p:nvPr/>
        </p:nvPicPr>
        <p:blipFill>
          <a:blip r:embed="rId1"/>
          <a:stretch/>
        </p:blipFill>
        <p:spPr>
          <a:xfrm>
            <a:off x="1785960" y="1600200"/>
            <a:ext cx="4533840" cy="49006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3250440" y="3213000"/>
            <a:ext cx="2606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щадь 24,2 млн.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72327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Физико-географическое 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908000" y="1484280"/>
            <a:ext cx="5040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еверная Амери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лан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ложение материка по отношению к эквато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ложение материка по отношению к нулевому мериди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Какими океанами омывается, изрезанность береговой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ложение по отношению к другим матери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ГП Северной Аме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World_fiz1"/>
          <p:cNvPicPr/>
          <p:nvPr/>
        </p:nvPicPr>
        <p:blipFill>
          <a:blip r:embed="rId1"/>
          <a:stretch/>
        </p:blipFill>
        <p:spPr>
          <a:xfrm>
            <a:off x="468360" y="1484280"/>
            <a:ext cx="8269200" cy="4529160"/>
          </a:xfrm>
          <a:prstGeom prst="rect">
            <a:avLst/>
          </a:prstGeom>
          <a:ln w="0">
            <a:noFill/>
          </a:ln>
        </p:spPr>
      </p:pic>
      <p:sp>
        <p:nvSpPr>
          <p:cNvPr id="57" name="Line 5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V="1">
            <a:off x="4572000" y="1412640"/>
            <a:ext cx="0" cy="460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611280" y="3068640"/>
            <a:ext cx="806436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абота в контурной ка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55897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Канадский Арктический архипе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68360" y="126828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а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Океаны, моря: Саргассово, Карибское, Баффина, Гудзонов за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95280" y="3213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- Острова: Гренландия, Алеут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95280" y="400536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- Полуострова: Лабрадор, Флорида, Калифор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87640" y="259920"/>
            <a:ext cx="41050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ысы - крайние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nam_fiz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4776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4788000" y="1397160"/>
          <a:ext cx="3816360" cy="4624200"/>
        </p:xfrm>
        <a:graphic>
          <a:graphicData uri="http://schemas.openxmlformats.org/drawingml/2006/table">
            <a:tbl>
              <a:tblPr/>
              <a:tblGrid>
                <a:gridCol w="1871640"/>
                <a:gridCol w="1944720"/>
              </a:tblGrid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ордин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ш, 95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ш  8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ш 168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ш 56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8" name="TextBox 4"/>
          <p:cNvSpPr/>
          <p:nvPr/>
        </p:nvSpPr>
        <p:spPr>
          <a:xfrm>
            <a:off x="6659640" y="2349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ая –  мыс  Мерчис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659640" y="328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ая – мыс Марья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6659640" y="4221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ая – мыс Принца Уэль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6659640" y="508464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точная – мыс  Сент-Чарль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8"/>
          <p:cNvSpPr/>
          <p:nvPr/>
        </p:nvSpPr>
        <p:spPr>
          <a:xfrm>
            <a:off x="2556000" y="1341360"/>
            <a:ext cx="17280" cy="19080"/>
          </a:xfrm>
          <a:custGeom>
            <a:avLst/>
            <a:gdLst/>
            <a:ahLst/>
            <a:rect l="l" t="t" r="r" b="b"/>
            <a:pathLst>
              <a:path w="50" h="51">
                <a:moveTo>
                  <a:pt x="7020" y="3696"/>
                </a:moveTo>
                <a:cubicBezTo>
                  <a:pt x="7068" y="3744"/>
                  <a:pt x="7060" y="3703"/>
                  <a:pt x="7045" y="36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9"/>
          <p:cNvSpPr/>
          <p:nvPr/>
        </p:nvSpPr>
        <p:spPr>
          <a:xfrm>
            <a:off x="571680" y="1000080"/>
            <a:ext cx="36360" cy="19080"/>
          </a:xfrm>
          <a:custGeom>
            <a:avLst/>
            <a:gdLst/>
            <a:ahLst/>
            <a:rect l="l" t="t" r="r" b="b"/>
            <a:pathLst>
              <a:path w="100" h="51">
                <a:moveTo>
                  <a:pt x="1588" y="2803"/>
                </a:moveTo>
                <a:cubicBezTo>
                  <a:pt x="1632" y="2803"/>
                  <a:pt x="1648" y="2818"/>
                  <a:pt x="1687" y="2828"/>
                </a:cubicBezTo>
                <a:cubicBezTo>
                  <a:pt x="1687" y="2800"/>
                  <a:pt x="1685" y="2789"/>
                  <a:pt x="1662" y="27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10"/>
          <p:cNvSpPr/>
          <p:nvPr/>
        </p:nvSpPr>
        <p:spPr>
          <a:xfrm>
            <a:off x="4170240" y="5938920"/>
            <a:ext cx="27000" cy="34920"/>
          </a:xfrm>
          <a:custGeom>
            <a:avLst/>
            <a:gdLst/>
            <a:ahLst/>
            <a:rect l="l" t="t" r="r" b="b"/>
            <a:pathLst>
              <a:path w="75" h="100">
                <a:moveTo>
                  <a:pt x="11609" y="16594"/>
                </a:moveTo>
                <a:cubicBezTo>
                  <a:pt x="11618" y="16558"/>
                  <a:pt x="11630" y="16549"/>
                  <a:pt x="11658" y="16520"/>
                </a:cubicBezTo>
                <a:cubicBezTo>
                  <a:pt x="11623" y="16493"/>
                  <a:pt x="11628" y="16495"/>
                  <a:pt x="11584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равнить ФГП Северной Америки и Южной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276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ты сх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ты разли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7" name="TextBox 4"/>
          <p:cNvSpPr/>
          <p:nvPr/>
        </p:nvSpPr>
        <p:spPr>
          <a:xfrm>
            <a:off x="539640" y="2060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асположены в западном полуш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539640" y="2997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мываются Атлантическим оке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39640" y="386064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мываются Тихим оке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68360" y="4508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ересекаются троп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468360" y="522936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Имеют общую границу через Панамский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4643280" y="2205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.Америка расположена в северном полушарии, а Ю.Америка – в северном и юж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4643280" y="3357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.Америка пересекается северным полярным кру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4643280" y="4292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.Америка омывается Северным Ледовитым оке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4716360" y="522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.Америка граничит с Евраз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9:36:58Z</dcterms:created>
  <dc:creator>Анна Ивановна</dc:creator>
  <dc:description/>
  <dc:language>en-US</dc:language>
  <cp:lastModifiedBy>user1</cp:lastModifiedBy>
  <dcterms:modified xsi:type="dcterms:W3CDTF">2013-02-13T10:56:28Z</dcterms:modified>
  <cp:revision>34</cp:revision>
  <dc:subject/>
  <dc:title>Слайд 1</dc:title>
</cp:coreProperties>
</file>