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A12-1118-4D9B-A295-EA96F9A9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D48-A23B-4F40-9362-2E30C73D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649-140C-4E12-AB9B-3CC06A60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CDF-347A-4B41-81E0-7BF436D1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B209-B149-4BBC-A834-4E48D2BA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35BE-ACC9-4ACB-AB5E-F6911E4C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C1F-7A5D-4B3B-BF21-EB56CE7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C1FA-7DE8-41EA-A4E8-A0A812FF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28C-233B-4A68-A73B-A495ADE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20EB-B368-41C4-8AF5-7A7E44E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DF4-8E37-4D23-972D-F9A54678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EC2-C247-4327-979B-65857631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937-CD3C-43C9-9DB7-1E799B57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94C-5221-46FF-BA19-D4D0DDB9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5F76-D2FD-4B6A-8922-AD7E660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6D3E-3E02-4FFD-9751-137F07DA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49D8-8570-4625-81AF-9FAF4815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AC9-4252-4C4F-BB14-3461CD7F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712-EA26-4C8E-860C-898069EB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88D-54EA-4152-B2B0-14D2179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C16-A5D4-4008-BD77-7DEBC2B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5F7-E67D-4984-BEDA-573BCD9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27F-65B6-4843-9C51-E22721D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0D7-65FA-4794-AD1D-75F870F5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3C41-5A9E-4C9E-AEFA-DCB0B192E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16D-88A6-4699-944D-D3FD5C0D7F8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евс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7" descr="i[18]"/>
          <p:cNvPicPr/>
          <p:nvPr/>
        </p:nvPicPr>
        <p:blipFill>
          <a:blip r:embed="rId1"/>
          <a:stretch/>
        </p:blipFill>
        <p:spPr>
          <a:xfrm>
            <a:off x="2514600" y="144792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Театр в Древней Греци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Устройство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еатр в Древней Гре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72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Московский Художественный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академический драматический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еатр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Копия pr_gabt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ат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Muz_theatr1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стройство теат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4" descr="bolshoy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4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924680" cy="27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роблемный вопрос: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оответствует ли текст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ПРОЛОГ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воему жанровому назначению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ролог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ро (перед) + лог (логос-мысль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писание перед основной часть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Трагедия (греч.) – песнь козл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м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459b[1]"/>
          <p:cNvPicPr/>
          <p:nvPr/>
        </p:nvPicPr>
        <p:blipFill>
          <a:blip r:embed="rId1"/>
          <a:stretch/>
        </p:blipFill>
        <p:spPr>
          <a:xfrm>
            <a:off x="2209680" y="1219320"/>
            <a:ext cx="4191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лог и его функци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редставление героев читателю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зрителю) (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еобходимые сведения для понимания дальнейшего (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еспечение читательского сочувствия к одним героям и неприятия других (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е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Рисунок 13" descr="http://im0-tub.yandex.net/i?id=305384&amp;tov=0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523880"/>
          <a:ext cx="8153280" cy="46479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лог и его 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ставление героев читател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зрителю)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бходимые сведения для понимания дальнейшего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печение читательского сочувствия к одним героям и неприятия других (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од (?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2023920"/>
          <a:ext cx="8229600" cy="36831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033640"/>
          <a:ext cx="8229600" cy="37004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016000"/>
          <a:ext cx="8229600" cy="374328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981080"/>
          <a:ext cx="8229600" cy="37609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981080"/>
          <a:ext cx="8229600" cy="38037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981080"/>
          <a:ext cx="8229600" cy="38466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943280"/>
          <a:ext cx="8229600" cy="386388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2001960"/>
          <a:ext cx="8229600" cy="39067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оссвор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959120"/>
          <a:ext cx="8229600" cy="392400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5760"/>
                <a:gridCol w="457200"/>
                <a:gridCol w="457200"/>
                <a:gridCol w="457200"/>
                <a:gridCol w="457200"/>
                <a:gridCol w="457200"/>
                <a:gridCol w="455400"/>
                <a:gridCol w="459000"/>
                <a:gridCol w="457200"/>
                <a:gridCol w="457200"/>
                <a:gridCol w="457200"/>
                <a:gridCol w="457200"/>
                <a:gridCol w="458640"/>
                <a:gridCol w="457200"/>
                <a:gridCol w="457200"/>
              </a:tblGrid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9400" marR="59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иони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Рисунок 7" descr="http://im8-tub.yandex.net/i?id=41337922&amp;tov=8"/>
          <p:cNvPicPr/>
          <p:nvPr/>
        </p:nvPicPr>
        <p:blipFill>
          <a:blip r:embed="rId1"/>
          <a:stretch/>
        </p:blipFill>
        <p:spPr>
          <a:xfrm>
            <a:off x="2514600" y="1295280"/>
            <a:ext cx="3733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Цель урока: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знакомство с одним из образцов античной драматургии и её эстетическими законами, уяснение характера связи греческой классики  с мифологией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развить аналитические навыки, направленные установление связей классики с мифологией;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создать условия для формирования нравственного идеала человека на примере текста трагед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ерме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Рисунок 4" descr="http://im3-tub.yandex.net/i?id=5967390&amp;tov=3"/>
          <p:cNvPicPr/>
          <p:nvPr/>
        </p:nvPicPr>
        <p:blipFill>
          <a:blip r:embed="rId1"/>
          <a:stretch/>
        </p:blipFill>
        <p:spPr>
          <a:xfrm>
            <a:off x="2666880" y="1523880"/>
            <a:ext cx="3505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ефес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Рисунок 1" descr="http://im5-tub.yandex.net/i?id=31024092&amp;tov=5"/>
          <p:cNvPicPr/>
          <p:nvPr/>
        </p:nvPicPr>
        <p:blipFill>
          <a:blip r:embed="rId1"/>
          <a:stretch/>
        </p:blipFill>
        <p:spPr>
          <a:xfrm>
            <a:off x="2666880" y="1523880"/>
            <a:ext cx="3733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ерак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Рисунок 16" descr="http://im8-tub.yandex.net/i?id=16841492&amp;tov=8"/>
          <p:cNvPicPr/>
          <p:nvPr/>
        </p:nvPicPr>
        <p:blipFill>
          <a:blip r:embed="rId1"/>
          <a:stretch/>
        </p:blipFill>
        <p:spPr>
          <a:xfrm>
            <a:off x="2590920" y="1447920"/>
            <a:ext cx="3733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Эсхил –великий драматург античност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" descr="i[55]"/>
          <p:cNvPicPr/>
          <p:nvPr/>
        </p:nvPicPr>
        <p:blipFill>
          <a:blip r:embed="rId1"/>
          <a:stretch/>
        </p:blipFill>
        <p:spPr>
          <a:xfrm>
            <a:off x="2666880" y="1371600"/>
            <a:ext cx="3581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Трагедия Эсхил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Прикованный     Прометей»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законы жанр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2514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о произведение драматического жанра, проникнутое грустным настроением, имеющее трагический фина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371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еверзева</cp:lastModifiedBy>
  <dcterms:modified xsi:type="dcterms:W3CDTF">2008-12-09T18:43:5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